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AB1-DA18-4775-A064-76A49AA3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57E-FE34-4181-9599-8A554A54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50A-3ABD-4E34-BA69-23840C82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BF5-1B85-4D64-A157-64F0E474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7E15-BE7D-493B-AEAB-1A6CFEBF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45D-BEA5-4E8E-BBD9-C6E3B59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0654-5388-41B4-A5F5-E249A4F6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9C10-EF81-4DE0-9722-02A034BA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7A49-7CF8-41A7-9527-9C187B09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03440" y="274320"/>
            <a:ext cx="7402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07EA-67E6-4580-96DD-D67B0757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CA8E-4CAF-443C-85E4-5F6FA06A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A40-4F71-48EB-9CAF-DFDEB384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AD52-0398-4AA8-8C4C-598B9B4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024-0AFB-4FB7-A4C1-C470DC2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8F64-95E1-4AEE-8D47-8B9C4A38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E32E-A3C1-4CF7-A620-EB78595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8F6-4250-48F9-8A97-CB26D67F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D6F-2F39-49D4-AA11-AAF23FA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3C7-6A88-485F-AB52-B55D0C93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26C-9E18-482B-BBFA-E549FE3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3440" y="274320"/>
            <a:ext cx="7402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041-D197-44EB-BF97-C697F49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794-1901-489F-BEEF-5830ABC5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74C-985D-49B9-995E-39C7FC1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128-ACA9-4362-9CEA-DC3BC43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0596" t="0" r="32691" b="0"/>
          <a:stretch/>
        </p:blipFill>
        <p:spPr>
          <a:xfrm>
            <a:off x="0" y="19080"/>
            <a:ext cx="830592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36e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F25A-9027-474E-AD8C-E91AA3D7EDF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36e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0DCF-EE40-49A4-9D1F-DE8607B351A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0596" t="0" r="32691" b="0"/>
          <a:stretch/>
        </p:blipFill>
        <p:spPr>
          <a:xfrm>
            <a:off x="0" y="20952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elos.info/Association" TargetMode="External"/><Relationship Id="rId2" Type="http://schemas.openxmlformats.org/officeDocument/2006/relationships/hyperlink" Target="http://www.delos.info/Association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elos.info/Association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436e"/>
                </a:solidFill>
                <a:latin typeface="Tahoma"/>
              </a:rPr>
              <a:t>WP8 – Dissemination</a:t>
            </a:r>
            <a:endParaRPr b="0" lang="en-US" sz="40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ittore Casar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dvisory Board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irrenia, 7 December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Publications (3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2840" y="1760400"/>
          <a:ext cx="677232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760400"/>
                    <a:ext cx="677232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Software inventory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2844" b="0"/>
          <a:stretch/>
        </p:blipFill>
        <p:spPr>
          <a:xfrm>
            <a:off x="1943280" y="1533600"/>
            <a:ext cx="56354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The DELOS Association (1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6720" y="1467000"/>
            <a:ext cx="836928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OS has established a not-for-profit association called “DELOS: an Association for Digital Librari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main aim of the associa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o promote research activities in the fie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digital libraries through the organization of workshops,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s, school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the membership fees,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ivities of the Association should be supporte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hopefully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tions (in cash or in kind) of anyone interested in th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ion of digital librar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ssociation is open to both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s and organizations, and the membership fee for th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year has been set to 50 Euro for individuals and 2000 Eu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organiz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Statute and the By-laws are available at the DELOS web sit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elos.info/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Associa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The DELOS Association (2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924200"/>
            <a:ext cx="8369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o boot-strap the association as quickly as possible, a provisional governing body has been set up, empowered to accept new me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mbership application forms are available at the registration desk and on the DELOS web site (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elos.info/Associatio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n Thursday evening at 7pm there will be the first General Assembly, to elect the Executive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5800" y="4703760"/>
            <a:ext cx="8088480" cy="1433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Association (3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12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b0326"/>
                </a:solidFill>
                <a:latin typeface="Tahoma"/>
              </a:rPr>
              <a:t>Ten good reasons to jo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Events 2004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490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pril 30, 2004, Florence, Italy, Presentation at EVA 2004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ne 16, 2004, Rome, Italy, National Event at the CNR, Rome, Italy Towards an Italian Science and Technology Digital Library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ne 23, 2004, Lund; Sweden, Regional Workshop Between Knowledge Organization and Semantic Web: Semantic Approaches in DL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ne 24-25, 2004; Cagliari, Italy, Thematic Workshop on Digital Library Architectures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July 8-10, 2004, Corvara, Italy, Brainstorming Meeting on Future Research Directions for DL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ugust 24, 2004, Vienna Austria, Joint DELOS/MINERVA/ICA Workshop on Good Practices in the Digitization of Cultural Data (at ICA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August 24, 2004, Vienna, Austria, Joint DELOS/ICA Workshop Preservation in Digital Archives (at ICA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6-10, 2004, Pisa, Italy, Summer School on Digital Library Technolog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12-15, 2004, Bath, UK,  ECDL 2004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15, 2004, Bath, UK, DELOS Information Day (at ECDL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16-17, 2004, Bath, UK, CLEF Workshop (at ECDL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17, 2004, Bath, UK, Workshop on Semantic Interoperability in Digital Librar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ptember 24, 2004, Firenze, Italy, Presentation of DELOS Open D-Lib at Firenze World Vision, Forum on ICT Innovatio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ctober 4-5, 2004, Padova, Italy, Workshop on the Evaluation of Digital Librar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ovember 15, 2004, The Hague, Netherlands, Panel on Results and Experiences in digitizing and accessing cultural and scientific resources (at IST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November 15, 2004, The Hague, Netherlands, Panel on Next Generation DL: Universal Knowledge Environments (at IST 2004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cember 6-8, 2004, Schloss Dagstuhl, Germany, INEX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Events 2005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7880" y="145548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anuary 28-29, 2005, Padova, Italy, 1st Italian Research Conference on Digital Library Management Systems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rch 29 - April 1, 2005 - Schloss Dagsthul, Germany, 8th DELOS Thematic Workshop: "Future Digital Library Management Systems: System Architecture and Information Access"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ril 14-15, 2005, Lund, Sweden, National Event on Electronic Publishing (with SciCom and SVEP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ril 16th, 2005, Athens, Greece, Tutorial Introduction to GRID Technologies for DL, (jointly with DILIGENT and EGEE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y 4-6, 2005, Cortona, Italy, Thematic Workshop: "Audio-Visual Content  and Information Visualization in Digital Libraries" (AVIVDiLib'05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y 6, 2005, Cortona, Italy, panel DL for Cultural Heritage applications (with BRICKS, MINERVA, EPOCH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y 11-13, 2005, Heraklion, Greece, Thematic Workshop: "Digital Repositories: Interoperability and Common Services"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y 18, 2005, Saint Petersburg, Russia, Presentation at UNESCO Expert Meeting on Digital Libraries: their promises and related challeng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ne 5-11, 2005, Sophia-Antipolis, France, Summer School on Preservation in Digital Librari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ne 20-24, 2005 - Santa Margherita di Pula, Italy, DELOS Panel on Digital Library EvolutionI at EEE-CS International Symposium From Local to Global Data Interoperability: Challenge and Technologi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ne 22, 2005, Luxembourg, Presentation at International Conference on future coordination of digitisatio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ne 23-24, 2005,  Brussels, Belgium, Presentation at  Workshop on Digital Libraries Deployment organized by DG Information Society and Media - Research Infrastructure: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ly 24, 2005, Las Vegas; USA, DELOS Session on Accessing Digital Libraries at HCI International Conference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ly 24-25, 2005, Edimbourgh, UK, DELOS Session at Personalized Information Access PIA 200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July 30, 2005, Press Release on DELOS contribution to the future European Digital Library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15, 2005, London, UK, DELOS- TEL Jont Workshopì at British Library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18-20, 2005, Vienna, Austria, ECDL 200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19, 2005, Vienna, Austria, Panel Digital Libraries over the GRID: Heaven or Hell ? (at ECDL 2005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20, 2005, Vienna, Austria, DELOS-MUSCLE Joint Workshop on Image and Video Retrieval Evaluation (ImageCLEF at ECDL 200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21-23, 2005, Vienna, Austria, CLEF Workshop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eptember 21-23, 2005, Vienna, Austria, DELOS poster sessio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October 13-14, 2005, Parma, Italy, DELOS-ELAG Joint Workshop IT curricula for libraries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vember 18, 2005, Bristol, UK, Presentation at National Representative Group meeting (Ministries of Culture),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ovember 28-30, 2005, Schloss Dagstuhl, Germany, INEX Workshop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cember 5-6, 2005, Juan-les-Pins, France, DELOS Brainstorming Meeting, Recommendations to EU RfC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cember 5-6, 2005, Juan-les-Pins, France, Poster session at Brainstorming meetin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ecember 6, 2005, Press Conference to French journalist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hird quarter 2006, Florence, Italy, Presentations at Digital Renaissance Foundatio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Events 2006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960" y="1590840"/>
            <a:ext cx="822960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anuary 26, 2006 - Padua, Italy, National Initiative for the Establishment of Institutional Repositories for Scientific and Technical Publication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anuary 27, 2006 - Padua, Italy, National event 2nd Italian Research Conference on Digital Librari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anuary 30-31, 2006 - Paris, France, DELOS workshop All Tasks Meetin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ebruary 1, 2006 - Paris, France, Demo Da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ebruary 13-16, 2006 - Oxford, UK, National event Digital Preservation Architecture (UML modelling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ch 13-15, 2006, Marrakech, Marocco, DELOS session on A/V Access and Retrieval at ICSSP Int. Conference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ch 29-31, 2006 - ENGAGE Regional Conference, Manila, Philippin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ch 30, 2006 - London, UK, WP workshop Semantic Interoperability for e-Research in the Sciences, Arts and Humaniti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ril 24-25, 2006 - Warsaw, Poland, Presentation at TEL-ME-MOR Regional Worksho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ril 28, 2006 - Bucharest, Romania, Joint workshop DELOS-ELAG Requirements for a European Digital Library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y 8-9, 2006 - Budapest, Hungary, Presentation at TEL-ME-MOR Regional Worksh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y 18-19, 2006 - Ljubljana, Slovenia, Presentation at TEL-ME-MOR Regional Worksh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e 1, 2006 - Rome, Italy, Italian Press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e 1-2, 2006 - Rome, Italy, Reference Model Worksh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e 4-10, 2006 - San Miniato, Italy, DELOS Summer School on Preservatio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June 12-17, 2006 - San Vincenzo, Italy, Joint DELOS-MUSCLE Summer School on Audio/Visu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4-5, 2006 - Tallin, Estonia, Regional workshop Digital Libraries and Digital Preservation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11-13, 2006 - ENGAGE Regional Conference, Jakarta, Indonesi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18, 2006, Alicante, Spain, Panel on Sustained Digital Libraries for Universal Use (at ECDL 2006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18-20, 2006 - Alicante, Spain, ECDL 2007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ptember 20-22, 2006 - Alicante, Spain, Annual CLEF Worksho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ctober 18, 2006 - Tallinn, Estonia, Presentations at TEL-ME-MOR Policy Conference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vember 1, 2006, Nicosia, Cyprus - Presentation at VAST yearly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vember 22, 2006 - Helsinki, Finland, DELOS Workshop at IST Conference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cember 18-20, 2006 - Schloss Dagstuhl, Germany, Annual INEX Workshop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Events 2007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479240"/>
            <a:ext cx="8229600" cy="52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nuary 29-30, 2007, Padova, Italy, 3rd Italian Research Conference on Digital Library System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bruary 12-15, 2007, Pisa, Italy, Virtual Clusters Meeting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bruary 13-14, 2007, Pisa, Italy, First DELOS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ebruary 15, 2007, Pisa, Italy, Joint DELOS-MultiMatch Workshop on "Ontology-Driven Interoperability for Cultural Heritage Digital Objects"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ch 8, 2007, Padova, Italy, DELOS-UNIPD Joint Workshop on The future of large-scale evaluation campaign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9-11, 2007, Barcelona, Spain, Joint workshop DELOS-ELAG A Prototype of a Digital Library Management System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11, 2007, Barcelona, Spain, Presentation of the DELOS Reference Nodel at the ELAG Annual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ch 11, 2007, ACM SIGAPP, Seoul, Korea - The Metric Space Approach in Similarity Search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y 28-June1, 2007, Firenze, Italy, Joint DELOS - NSDL Summer School on "Digital Libraries for the Digital Librarian: Making the Journey from Traditional to Digital Libraries"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ne 3-9, 2007, Pisa, Italy, DELOS Summer School on Preservation in Digital Librari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ne 23, 2007, Vancouver, Canada, 1st Workshop on Digital Libraries Foundation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une 29-30, 2007, Corfu, Greece,10th DELOS Thematic Workshop on "Personalized Access, Profile Management, and Context Awareness in Digital Libraries" (PersDL 2007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gust 17, 2007, Oslo, Norway, Seminar on the DELOS Reference Model at the DILL International Master on Digital Librari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ptember 14, 2007, Modena, Italy, 11th DELOS Thematic Workshop on "Visual and Multimedia Digital Libraries" (VMDL07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ptember 16-21, 2007, Budapest, Hungary, ECDL 2007 - 11th European Conference on Research and Advanced Technologies on Digital Librari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ptember 20, 2007, Budapest, Hungary, Second DELOS Workshop on Digital Libraries Foundation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ptember 21-22, 2007, Budapest, Hungary, CLEF Workshop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vember 15-16, 2007, Roma, Italy, Joint Workshop DELOS-Accademia Lincei on Appraisal in a Digtal World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vember 21, 2007, Jurasalem, Israel, Session on the DELOS Reference Model at EVA/MINERVA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vember 21, 2007, Jurasalem, Israel, Session on the DELOS DLMS at EVA/MINERVA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cember 5-7, 2007, Pisa, Italy, Second DELOS Conferen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Events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4280" y="1898640"/>
          <a:ext cx="84549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898640"/>
                    <a:ext cx="84549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Participation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38040" y="1739880"/>
          <a:ext cx="8412120" cy="44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739880"/>
                    <a:ext cx="841212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Publications (1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09520" y="1859040"/>
          <a:ext cx="678024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859040"/>
                    <a:ext cx="678024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DELOS Publications (2)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2040" y="1771560"/>
          <a:ext cx="783432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771560"/>
                    <a:ext cx="783432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3:02:38Z</dcterms:created>
  <dc:creator>Yuli Koutrika</dc:creator>
  <dc:description/>
  <dc:language>en-US</dc:language>
  <cp:lastModifiedBy>Vittore Casarosa</cp:lastModifiedBy>
  <dcterms:modified xsi:type="dcterms:W3CDTF">2007-12-07T13:41:33Z</dcterms:modified>
  <cp:revision>220</cp:revision>
  <dc:subject/>
  <dc:title>Slide 1</dc:title>
</cp:coreProperties>
</file>