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2.wmf" ContentType="image/x-wmf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7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85013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BC3-C398-46DC-A2A6-493EEFC0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0294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1120" y="3951720"/>
            <a:ext cx="80294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D95-651F-4B3D-8BC7-403BAEEF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25560" y="161928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1120" y="395172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25560" y="395172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A58-D369-43DE-852F-7683E49A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258516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25880" y="1619280"/>
            <a:ext cx="258516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40640" y="1619280"/>
            <a:ext cx="258516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1120" y="3951720"/>
            <a:ext cx="258516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25880" y="3951720"/>
            <a:ext cx="258516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40640" y="3951720"/>
            <a:ext cx="258516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10F-E29D-4619-AF28-0015BA70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CE3B-FB3B-4700-A7B7-8DC56567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120" y="161928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60EA-8A49-46A8-9C5D-419F2522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6BED-08A2-4363-96E7-A44691A7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39182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25560" y="1619280"/>
            <a:ext cx="39182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FEC4-A469-4FFC-93C9-672A386F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9619-7A91-48CB-A3C9-FC021684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2840" y="201240"/>
            <a:ext cx="6738840" cy="43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940E-DAD4-4E26-8112-5CE6CA04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25560" y="1619280"/>
            <a:ext cx="39182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1120" y="395172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5E20-6903-4AA5-A66B-FDF090FD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1120" y="161928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A4E1-BA55-4A0F-83B0-8468D175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39182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25560" y="161928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25560" y="395172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A9F6-3691-49F0-A1D8-ED05D043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25560" y="161928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1120" y="3951720"/>
            <a:ext cx="80294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B3A4-44C2-4324-AE66-0C1557D7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0294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1120" y="3951720"/>
            <a:ext cx="80294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15CB-39A1-40D4-90AD-23DBDD17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5560" y="161928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1120" y="395172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25560" y="395172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663D-64DF-45EF-ADB0-13CC0A53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258516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25880" y="1619280"/>
            <a:ext cx="258516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40640" y="1619280"/>
            <a:ext cx="258516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1120" y="3951720"/>
            <a:ext cx="258516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25880" y="3951720"/>
            <a:ext cx="258516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40640" y="3951720"/>
            <a:ext cx="258516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2017-4AC0-4648-9DBE-678020AB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71D5-62E5-405D-B1CE-E9E9BD0D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39182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25560" y="1619280"/>
            <a:ext cx="39182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35D-E1BF-41A0-BCEA-9FCDC8DC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7D6-0D54-4E7E-B0C2-7C820968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02840" y="201240"/>
            <a:ext cx="6738840" cy="43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75C-7711-4E68-B2E9-7833E5E7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5560" y="1619280"/>
            <a:ext cx="39182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1120" y="395172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E01-FB96-4130-A914-D1713D92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39182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25560" y="161928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25560" y="395172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3843-880F-426E-A712-A4AF468E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5560" y="1619280"/>
            <a:ext cx="39182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1120" y="3951720"/>
            <a:ext cx="8029440" cy="212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B75-1004-4D18-B591-0A7CC8CE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287360"/>
            <a:ext cx="830592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1120" y="161928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E97E-B288-4C0A-82CC-302F076177B2}" type="datetime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8886-2605-4F76-BA56-9EF1AF5184A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353360" y="247680"/>
          <a:ext cx="1044360" cy="104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53360" y="247680"/>
                    <a:ext cx="10443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9431-4723-439A-98D4-B30124185FD4}" type="datetime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5820-C3F1-4BBD-9A11-7836294EFD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6440" y="709200"/>
            <a:ext cx="77724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cc"/>
                </a:solidFill>
                <a:latin typeface="Times New Roman"/>
              </a:rPr>
              <a:t>Cluster 4</a:t>
            </a:r>
            <a:br>
              <a:rPr sz="5400"/>
            </a:br>
            <a:r>
              <a:rPr b="1" lang="en-GB" sz="5400" spc="-1" strike="noStrike">
                <a:solidFill>
                  <a:srgbClr val="0033cc"/>
                </a:solidFill>
                <a:latin typeface="Times New Roman"/>
              </a:rPr>
              <a:t>User Interfaces and Visualization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91840" y="3981600"/>
            <a:ext cx="7886520" cy="72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Comic Sans MS"/>
              </a:rPr>
              <a:t>Tiziana Catarci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Dipartimento di Informatica e Sistemistica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Comic Sans MS"/>
              </a:rPr>
              <a:t>Università di Roma “La Sapienza”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Main achievements (cont.)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1040" y="1457280"/>
            <a:ext cx="28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Arial"/>
              </a:rPr>
              <a:t>Metadata visualiz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Arial"/>
              </a:rPr>
              <a:t>clutter r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327480" y="151272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79360" y="2612880"/>
            <a:ext cx="294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Arial"/>
              </a:rPr>
              <a:t>Relevance feedback in distributed 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Arial"/>
              </a:rPr>
              <a:t>Sampling, selection, description, and fusion in relevance feedback from remote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Task 4.5b (3.7)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cc"/>
                </a:solidFill>
                <a:latin typeface="Arial"/>
              </a:rPr>
              <a:t>Main goal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: Customization of video stream transmission and display on portable devices.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utomatic video extraction of meaningful objects and events according to user’s interests.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ser profiling and design of flexible small screen device interface, able to minimize the user interaction and adapt to devices characteristics.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Main achievements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17520" y="1409760"/>
            <a:ext cx="7988400" cy="22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Video analysis tools: obtaining automatic and human-supervised annotation of soccer videos, carried on also within the VAPEON task (3.6)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Development of a complete system for mobile video streaming devoted to both annotated sport videos and video surveillance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Plastic interface prototypes that allow browsing and summarization using a variety of interfaces </a:t>
            </a: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43000" y="3048120"/>
            <a:ext cx="6419520" cy="3809880"/>
            <a:chOff x="1143000" y="3048120"/>
            <a:chExt cx="6419520" cy="3809880"/>
          </a:xfrm>
        </p:grpSpPr>
        <p:pic>
          <p:nvPicPr>
            <p:cNvPr id="120" name="Picture 2" descr=""/>
            <p:cNvPicPr/>
            <p:nvPr/>
          </p:nvPicPr>
          <p:blipFill>
            <a:blip r:embed="rId1"/>
            <a:stretch/>
          </p:blipFill>
          <p:spPr>
            <a:xfrm>
              <a:off x="1809000" y="3048120"/>
              <a:ext cx="5476320" cy="171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3" descr=""/>
            <p:cNvPicPr/>
            <p:nvPr/>
          </p:nvPicPr>
          <p:blipFill>
            <a:blip r:embed="rId2"/>
            <a:stretch/>
          </p:blipFill>
          <p:spPr>
            <a:xfrm>
              <a:off x="1143000" y="5297760"/>
              <a:ext cx="3540600" cy="15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" descr=""/>
            <p:cNvPicPr/>
            <p:nvPr/>
          </p:nvPicPr>
          <p:blipFill>
            <a:blip r:embed="rId3"/>
            <a:stretch/>
          </p:blipFill>
          <p:spPr>
            <a:xfrm>
              <a:off x="4541400" y="5356800"/>
              <a:ext cx="3021120" cy="14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Freccia in giù 6"/>
            <p:cNvSpPr/>
            <p:nvPr/>
          </p:nvSpPr>
          <p:spPr>
            <a:xfrm>
              <a:off x="3008880" y="4764960"/>
              <a:ext cx="266400" cy="532800"/>
            </a:xfrm>
            <a:prstGeom prst="downArrow">
              <a:avLst>
                <a:gd name="adj1" fmla="val 50000"/>
                <a:gd name="adj2" fmla="val 44444"/>
              </a:avLst>
            </a:prstGeom>
            <a:solidFill>
              <a:srgbClr val="3366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ccia in giù 7"/>
            <p:cNvSpPr/>
            <p:nvPr/>
          </p:nvSpPr>
          <p:spPr>
            <a:xfrm>
              <a:off x="5474520" y="4764960"/>
              <a:ext cx="266400" cy="532800"/>
            </a:xfrm>
            <a:prstGeom prst="downArrow">
              <a:avLst>
                <a:gd name="adj1" fmla="val 50000"/>
                <a:gd name="adj2" fmla="val 44444"/>
              </a:avLst>
            </a:prstGeom>
            <a:solidFill>
              <a:srgbClr val="3366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CasellaDiTesto 8"/>
            <p:cNvSpPr/>
            <p:nvPr/>
          </p:nvSpPr>
          <p:spPr>
            <a:xfrm>
              <a:off x="3275280" y="4763160"/>
              <a:ext cx="146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c-based deco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CasellaDiTesto 9"/>
            <p:cNvSpPr/>
            <p:nvPr/>
          </p:nvSpPr>
          <p:spPr>
            <a:xfrm>
              <a:off x="5807520" y="4763160"/>
              <a:ext cx="146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DA-based deco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CasellaDiTesto 10"/>
            <p:cNvSpPr/>
            <p:nvPr/>
          </p:nvSpPr>
          <p:spPr>
            <a:xfrm>
              <a:off x="2676960" y="3095280"/>
              <a:ext cx="146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nco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Main achievements (cont.)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5240" y="4572000"/>
            <a:ext cx="3351240" cy="20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ultimodal transcoding: automatic creation of text captions using ontology-based video annotation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6000" y="1527120"/>
            <a:ext cx="4640040" cy="2898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46440" y="1971720"/>
            <a:ext cx="370872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Main achievements (cont.)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3120" y="1658880"/>
            <a:ext cx="31287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totype system for generation of small screen interfaces and  interfaces for video browsing and ed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229280" y="961920"/>
            <a:ext cx="3181320" cy="2935440"/>
          </a:xfrm>
          <a:prstGeom prst="rect">
            <a:avLst/>
          </a:prstGeom>
          <a:ln w="0">
            <a:noFill/>
          </a:ln>
        </p:spPr>
      </p:pic>
      <p:pic>
        <p:nvPicPr>
          <p:cNvPr id="135" name="textual" descr=""/>
          <p:cNvPicPr/>
          <p:nvPr/>
        </p:nvPicPr>
        <p:blipFill>
          <a:blip r:embed="rId2"/>
          <a:srcRect l="0" t="0" r="68104" b="0"/>
          <a:stretch/>
        </p:blipFill>
        <p:spPr>
          <a:xfrm>
            <a:off x="217440" y="4094280"/>
            <a:ext cx="2087640" cy="2044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0" t="0" r="31258" b="10189"/>
          <a:stretch/>
        </p:blipFill>
        <p:spPr>
          <a:xfrm>
            <a:off x="2633760" y="3962520"/>
            <a:ext cx="2808360" cy="2246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rcRect l="0" t="21367" r="36572" b="0"/>
          <a:stretch/>
        </p:blipFill>
        <p:spPr>
          <a:xfrm>
            <a:off x="5881680" y="3976560"/>
            <a:ext cx="2347920" cy="2881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92200" y="6583320"/>
            <a:ext cx="216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Mobile phon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brow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6383160"/>
            <a:ext cx="216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PC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brow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13480" y="6583320"/>
            <a:ext cx="216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PC video ed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221760"/>
            <a:ext cx="7777080" cy="95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Task 4.7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cc"/>
                </a:solidFill>
                <a:latin typeface="Arial"/>
              </a:rPr>
              <a:t>Main goals</a:t>
            </a:r>
            <a:r>
              <a:rPr b="1" lang="it-IT" sz="2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Elici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f user requirements 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for D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nd 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creat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ser experience lifecycle model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efin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n conventional access paradigms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for DLs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 to advance the quality of the user experienc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evelop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monstrative prototypes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demonstrating the new concepts and mechanisms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5720" y="22968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ain achievements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Empirical research on user requirements for Digital Library and development of the User Experience Lifecycl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Development of advanced access paradigms for a more rewarding user experience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Arial"/>
              </a:rPr>
              <a:t>Advanced aural interaction requirements supporting usable accessibility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Arial"/>
              </a:rPr>
              <a:t>Catalogue browsing paradigm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Arial"/>
              </a:rPr>
              <a:t>Scatter/Gather paradigm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&gt;&gt; For each access paradigm: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Arial"/>
              </a:rPr>
              <a:t>Modelling primitives and design patterns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cc"/>
                </a:solidFill>
                <a:latin typeface="Arial"/>
              </a:rPr>
              <a:t>Development and validation of prototype/full applications</a:t>
            </a: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Main achievements (cont.)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6" name="mobile1" descr=""/>
          <p:cNvPicPr/>
          <p:nvPr/>
        </p:nvPicPr>
        <p:blipFill>
          <a:blip r:embed="rId1"/>
          <a:stretch/>
        </p:blipFill>
        <p:spPr>
          <a:xfrm>
            <a:off x="369720" y="1549440"/>
            <a:ext cx="3321360" cy="2547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1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2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0" y="44157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mobile4" descr=""/>
          <p:cNvPicPr/>
          <p:nvPr/>
        </p:nvPicPr>
        <p:blipFill>
          <a:blip r:embed="rId2"/>
          <a:stretch/>
        </p:blipFill>
        <p:spPr>
          <a:xfrm>
            <a:off x="1897200" y="2543040"/>
            <a:ext cx="2476440" cy="2656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287960"/>
            <a:ext cx="2214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atalogue 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737240" y="3443400"/>
            <a:ext cx="3530520" cy="2843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826160" y="1569960"/>
            <a:ext cx="300168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ENA: from visual to a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Validating on a real-life DL the effectiveness of applying DELOS-developed guidelines for advanced accessibil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ain achievements (cont.)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22440" y="1638360"/>
            <a:ext cx="4495680" cy="3597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194440" y="1798560"/>
            <a:ext cx="300168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33cc"/>
                </a:solidFill>
                <a:latin typeface="Arial"/>
              </a:rPr>
              <a:t>Model for the evaluation of the user experience “in contex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Task 4.8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33cc"/>
                </a:solidFill>
                <a:latin typeface="Arial"/>
              </a:rPr>
              <a:t>Main goal</a:t>
            </a:r>
            <a:r>
              <a:rPr b="1" lang="en-GB" sz="2600" spc="-1" strike="noStrike">
                <a:solidFill>
                  <a:srgbClr val="0033cc"/>
                </a:solidFill>
                <a:latin typeface="Arial"/>
              </a:rPr>
              <a:t>: Provide the user with a system that supports her while performing day-to-day tasks</a:t>
            </a:r>
            <a:r>
              <a:rPr b="1" lang="en-GB" sz="22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lang="en-GB" sz="2600" spc="-1" strike="noStrike">
                <a:solidFill>
                  <a:srgbClr val="0033cc"/>
                </a:solidFill>
                <a:latin typeface="Arial"/>
              </a:rPr>
              <a:t>user’s personal digital library most commonly/frequently used!)</a:t>
            </a:r>
            <a:endParaRPr b="1" lang="en-US" sz="26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learn the most common task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infer what is the current task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execute (semi-automatically) tasks by linking them to user’s data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Arial"/>
              </a:rPr>
              <a:t>→ </a:t>
            </a:r>
            <a:r>
              <a:rPr b="1" lang="en-GB" sz="2600" spc="-1" strike="noStrike">
                <a:solidFill>
                  <a:srgbClr val="0033cc"/>
                </a:solidFill>
                <a:latin typeface="Arial"/>
              </a:rPr>
              <a:t>Idea: exploit the user’s personal data semantics!</a:t>
            </a:r>
            <a:r>
              <a:rPr b="1" lang="en-GB" sz="30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1" lang="en-US" sz="3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To elaborate a common understanding of the role and scope of user interface research in the digital library area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o 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develop a theoretical framework for digital library user interface design. 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velop methodologies, techniques and tools to enable future Digital Library designers and developers to meet not only the technological, but also the user-oriented requirements in a balanced wa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y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6480" y="353880"/>
            <a:ext cx="6140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cc"/>
                </a:solidFill>
                <a:latin typeface="Times New Roman"/>
              </a:rPr>
              <a:t>Mai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Main achievements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cc"/>
                </a:solidFill>
                <a:latin typeface="Arial"/>
              </a:rPr>
              <a:t>Personal information management system (PIM) based on the use of a personal ontology and semantic save tool to organize data according to their semantic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ersonal ontology, playing also the role of user profil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athered from existing resources such as an email address book and/or produced explicitly by the user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cc"/>
                </a:solidFill>
                <a:latin typeface="Arial"/>
              </a:rPr>
              <a:t>Task definition language, provided with a formal and well-defined semantics; 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cc"/>
                </a:solidFill>
                <a:latin typeface="Arial"/>
              </a:rPr>
              <a:t>Inference 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techniques and algorithms, currently focused on form-filling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Main achievements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54200" y="1571760"/>
            <a:ext cx="7459560" cy="4545000"/>
            <a:chOff x="754200" y="1571760"/>
            <a:chExt cx="7459560" cy="4545000"/>
          </a:xfrm>
        </p:grpSpPr>
        <p:sp>
          <p:nvSpPr>
            <p:cNvPr id="163" name=""/>
            <p:cNvSpPr/>
            <p:nvPr/>
          </p:nvSpPr>
          <p:spPr>
            <a:xfrm>
              <a:off x="3413160" y="1571760"/>
              <a:ext cx="4800600" cy="180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IP !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651400" y="2651040"/>
              <a:ext cx="3173400" cy="193680"/>
            </a:xfrm>
            <a:prstGeom prst="rightArrow">
              <a:avLst>
                <a:gd name="adj1" fmla="val 51028"/>
                <a:gd name="adj2" fmla="val 15201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87760" y="2430720"/>
              <a:ext cx="498600" cy="2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4200" y="2102040"/>
              <a:ext cx="67788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46720" y="2217960"/>
              <a:ext cx="1128600" cy="177840"/>
            </a:xfrm>
            <a:prstGeom prst="rightArrow">
              <a:avLst>
                <a:gd name="adj1" fmla="val 50000"/>
                <a:gd name="adj2" fmla="val 15865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84520" y="1960920"/>
              <a:ext cx="49860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51240" y="5156280"/>
              <a:ext cx="22860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al ontology (P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36840" y="2102040"/>
              <a:ext cx="1103400" cy="2971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 application wrap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46560" y="5613480"/>
              <a:ext cx="2290680" cy="5032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B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62400" y="3872160"/>
              <a:ext cx="224316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al Ontology Interaction Mod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2584800"/>
              <a:ext cx="157320" cy="1225440"/>
            </a:xfrm>
            <a:prstGeom prst="downArrow">
              <a:avLst>
                <a:gd name="adj1" fmla="val 50000"/>
                <a:gd name="adj2" fmla="val 1947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6360" y="2884680"/>
              <a:ext cx="343080" cy="23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8720" y="3822840"/>
              <a:ext cx="38088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23400" y="4327920"/>
              <a:ext cx="914400" cy="30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94400" y="2117880"/>
              <a:ext cx="1474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35960" y="2135520"/>
              <a:ext cx="213336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sks sugges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48400" y="3002040"/>
              <a:ext cx="1122480" cy="1176480"/>
            </a:xfrm>
            <a:custGeom>
              <a:avLst/>
              <a:gdLst>
                <a:gd name="textAreaLeft" fmla="*/ 168840 w 1122480"/>
                <a:gd name="textAreaRight" fmla="*/ 941400 w 1122480"/>
                <a:gd name="textAreaTop" fmla="*/ 920520 h 1176480"/>
                <a:gd name="textAreaBottom" fmla="*/ 986760 h 117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0386"/>
                  </a:moveTo>
                  <a:lnTo>
                    <a:pt x="16899" y="20386"/>
                  </a:lnTo>
                  <a:lnTo>
                    <a:pt x="16899" y="3248"/>
                  </a:lnTo>
                  <a:lnTo>
                    <a:pt x="13412" y="3248"/>
                  </a:lnTo>
                  <a:lnTo>
                    <a:pt x="17506" y="0"/>
                  </a:lnTo>
                  <a:lnTo>
                    <a:pt x="21600" y="3248"/>
                  </a:lnTo>
                  <a:lnTo>
                    <a:pt x="18113" y="3248"/>
                  </a:lnTo>
                  <a:lnTo>
                    <a:pt x="1811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8" idx="2"/>
              <a:endCxn id="169" idx="3"/>
            </p:cNvCxnSpPr>
            <p:nvPr/>
          </p:nvCxnSpPr>
          <p:spPr>
            <a:xfrm rot="5400000">
              <a:off x="5088600" y="3514680"/>
              <a:ext cx="2361600" cy="12661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1" name=""/>
            <p:cNvCxnSpPr>
              <a:stCxn id="172" idx="2"/>
              <a:endCxn id="169" idx="0"/>
            </p:cNvCxnSpPr>
            <p:nvPr/>
          </p:nvCxnSpPr>
          <p:spPr>
            <a:xfrm>
              <a:off x="4484880" y="4605480"/>
              <a:ext cx="10080" cy="55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2" name=""/>
            <p:cNvCxnSpPr>
              <a:stCxn id="178" idx="2"/>
              <a:endCxn id="176" idx="0"/>
            </p:cNvCxnSpPr>
            <p:nvPr/>
          </p:nvCxnSpPr>
          <p:spPr>
            <a:xfrm flipH="1" rot="16200000">
              <a:off x="6610320" y="3258360"/>
              <a:ext cx="1361160" cy="778680"/>
            </a:xfrm>
            <a:prstGeom prst="curvedConnector5">
              <a:avLst>
                <a:gd name="adj1" fmla="val 49947"/>
                <a:gd name="adj2" fmla="val 50000"/>
                <a:gd name="adj3" fmla="val 49947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83" name=""/>
          <p:cNvSpPr/>
          <p:nvPr/>
        </p:nvSpPr>
        <p:spPr>
          <a:xfrm>
            <a:off x="419040" y="5380200"/>
            <a:ext cx="255744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33cc"/>
                </a:solidFill>
                <a:latin typeface="Arial"/>
              </a:rPr>
              <a:t>TIM architecture and prototyp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Task 4.9 (3.11)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cc"/>
                </a:solidFill>
                <a:latin typeface="Arial"/>
              </a:rPr>
              <a:t>Main goal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: to provide principles, methodologies and software for the automation of the construction of Natural Language and Speech interfaces to knowledge repositories.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Main achievements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35440" y="1644480"/>
          <a:ext cx="4584600" cy="478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35440" y="1644480"/>
                    <a:ext cx="4584600" cy="47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-304920" y="1646280"/>
            <a:ext cx="382752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Methodology and algorithms for resolving ambiguities of (natural language) user expressions in a particular domain by exploiting available domain knowled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lgorithms and alternatives for effective speech recog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valuation of algorithms and methodologies based on user studies and different domains of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evelopment of  an integrated speech/NL prototy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egration in the Delos DL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Task 4.10 (1.5)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0600" y="150660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33cc"/>
                </a:solidFill>
                <a:latin typeface="Arial"/>
              </a:rPr>
              <a:t>Main goals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o implement a digital library annotation service based on design guidelines and existing tools made available by the task participants;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o define a set of APIs to allow access to this service from different digital libraries;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o evaluate its us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Main achievements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025640" y="1312920"/>
            <a:ext cx="6280200" cy="2963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4376880"/>
            <a:ext cx="843768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Formal model for anno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Design and implementation of the DiLAS application logic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Mapping between the annotation models of MADCOW, FAST, and DAFFOD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Design and implementation of a user interface for the DiLAS annotation service, integrated into DAFFOD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Evaluation of the DiLAS annotation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Extension of  DelosDLMS by integrating FAST and supporting advance search functionalities that involve anno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cc"/>
                </a:solidFill>
                <a:latin typeface="Times New Roman"/>
              </a:rPr>
              <a:t>Delos DLMS visual interface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857680" y="1930320"/>
            <a:ext cx="5621040" cy="4216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96880" y="1549440"/>
            <a:ext cx="4254480" cy="3190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4910040"/>
            <a:ext cx="300204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DARE/MedioVis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Syncrhonized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Visual OL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Dissemination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More than 100 cluster publication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Delos school on “User-centered Design of Digital Libraries”, Sept. 2004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orkshop on Audio-Visual Content and Information Visualization in Digital Libraries, Cortona, Italy, 4-6 May 2005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Special session on “Accessing Digital Libraries” at HCI International 2005, Las Vegas, July 22-27, 2005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Workshop on “Personalization and Context”, at the 11° Conf. on User Modeling, June 2007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Integration Activities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"/>
              </a:rPr>
              <a:t>Integration of several components into the Delos DLMS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"/>
              </a:rPr>
              <a:t>Integration with tasks from WP2 and WP4, in particular on personalized information access and context characterization.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Integration with tasks from WP2 and WP3 in particular in trying out  new challenges on 3D models and in supporting relevance feedback.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"/>
              </a:rPr>
              <a:t>Joint report on context characterization.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"/>
              </a:rPr>
              <a:t>Two cluster meetings, Sept. 2005 and Sept. 2006, several Task meetings.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"/>
              </a:rPr>
              <a:t>Meetings with TEL.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"/>
              </a:rPr>
              <a:t>Meetings with MICHAEL.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"/>
              </a:rPr>
              <a:t>Researcher exchanges.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"/>
              </a:rPr>
              <a:t>More than 100 joint publications.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cc"/>
                </a:solidFill>
                <a:latin typeface="Times New Roman"/>
              </a:rPr>
              <a:t>Partners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 "/>
              </a:rPr>
              <a:t>Roma1, Italy: coordinator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 "/>
              </a:rPr>
              <a:t>FhG/IPSI, Germany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"/>
              </a:rPr>
              <a:t>U.Konstanz, Germany</a:t>
            </a:r>
            <a:r>
              <a:rPr b="1" lang="it-IT" sz="2000" spc="-1" strike="noStrike">
                <a:solidFill>
                  <a:srgbClr val="0033cc"/>
                </a:solidFill>
                <a:latin typeface="Arial "/>
              </a:rPr>
              <a:t> 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 "/>
              </a:rPr>
              <a:t>CSE, Denmark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 "/>
              </a:rPr>
              <a:t>IKS, Denmark 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 "/>
              </a:rPr>
              <a:t>Forth-ICS, Greece 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"/>
              </a:rPr>
              <a:t>UoLanc, UK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 "/>
              </a:rPr>
              <a:t>UNISI, Switzerland 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 "/>
              </a:rPr>
              <a:t>UNIMORE, Italy 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"/>
              </a:rPr>
              <a:t>UNIFI-MICC, Italy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 "/>
              </a:rPr>
              <a:t>TUC, Greece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"/>
              </a:rPr>
              <a:t>UNIPD, Italy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"/>
              </a:rPr>
              <a:t>CUCE, Luxembourg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cc"/>
                </a:solidFill>
                <a:latin typeface="Arial "/>
              </a:rPr>
              <a:t>SICS, Sweden</a:t>
            </a: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WP4 Tasks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ask 4.5: Visualisation in DL system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4.5a: Relevance Feedback 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rticipants: Roma1, UOA,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.Konstanz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 UNIFI-MICC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.5b: Multimedia Interfaces for Mobile Applications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articipants: Roma1,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NIFI-MICC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 UNIMORE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WP4 Tasks (cont.)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ask 4.7 - User Requirements-driven Support for a DL Design Framework 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Participants: FORTH, UNIDU, RISOE.DK, Roma1, </a:t>
            </a: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UNISI</a:t>
            </a:r>
            <a:endParaRPr b="1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ask 4.8 - Task-centered Information Managemen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Participants: </a:t>
            </a: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Roma1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, UOA, UoLanc</a:t>
            </a:r>
            <a:endParaRPr b="1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WP4 Tasks (cont.)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ask 4.9 - Natural Language and Speech Interfaces to Knowledge Repositorie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Participants: </a:t>
            </a: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TUC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, FHG/IPSI/IMK, Roma1</a:t>
            </a:r>
            <a:endParaRPr b="1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ask 4.10 - Design, Implementation and Evaluation of Multimedia Annotations for Users’ Collaboration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Participants: FhG/IPSI, UniDU, Risoe, </a:t>
            </a: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Roma1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33cc"/>
                </a:solidFill>
                <a:latin typeface="Arial"/>
              </a:rPr>
              <a:t>UNIPD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, SICS</a:t>
            </a:r>
            <a:endParaRPr b="1" lang="en-US" sz="2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DL-UI workflow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77920" y="1660680"/>
            <a:ext cx="649440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880" y="201240"/>
            <a:ext cx="7970760" cy="10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ask 4.5a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1120" y="1619280"/>
            <a:ext cx="802944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Main goal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olving the “semantic gap” between machine computed similarity and human perception through relevance feedback mechanisms and advanced visualizations.</a:t>
            </a:r>
            <a:endParaRPr b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2840" y="201240"/>
            <a:ext cx="67388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Times New Roman"/>
              </a:rPr>
              <a:t>Main achievements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3429000" cy="153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48120" y="3276720"/>
            <a:ext cx="2327040" cy="1460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3573360"/>
            <a:ext cx="26668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Visual Feedback based on comparative visualizations of Digital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19920" y="4952880"/>
            <a:ext cx="2857320" cy="159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971800" y="5029200"/>
            <a:ext cx="2933640" cy="1565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4000" y="5300640"/>
            <a:ext cx="2398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Visual Feature Space Discrimination Analysis based on proj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048120" y="1676520"/>
            <a:ext cx="5715000" cy="1371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1828800"/>
            <a:ext cx="232236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Interactive Visualization in Digital Libraries using a SOM-based re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cc"/>
                </a:solidFill>
                <a:latin typeface="Arial"/>
              </a:rPr>
              <a:t>(component integrated into DELOS-DL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1T12:08:26Z</dcterms:created>
  <dc:creator>Carol Peters</dc:creator>
  <dc:description/>
  <dc:language>en-US</dc:language>
  <cp:lastModifiedBy> </cp:lastModifiedBy>
  <cp:lastPrinted>2003-06-18T15:15:58Z</cp:lastPrinted>
  <dcterms:modified xsi:type="dcterms:W3CDTF">2007-12-07T14:43:31Z</dcterms:modified>
  <cp:revision>580</cp:revision>
  <dc:subject/>
  <dc:title>The DELOS Digital Library Working Group</dc:title>
</cp:coreProperties>
</file>