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B07E-C82C-4A75-B93C-C7FFD6E75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EB63-71EF-49FA-AD8E-DC771464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2FA2-1EDE-4B8B-86E3-858ECE6B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F2B1-9816-491F-9BB4-12CCEB85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098B-AC50-49D0-9AE8-9926D4C9C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C10C-B4F0-4E2A-ADB4-CBFAE51C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C91C-108A-41B8-B54E-895A6AF7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896F-6FC2-4B3D-A464-13F2FEF1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A075-185A-464D-87D9-C6E0BC26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03440" y="274320"/>
            <a:ext cx="7402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5447-37E9-452D-98E8-131273C6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B7ED-45FD-4496-9D76-F2C4BED9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0BCF-AAE8-45F4-936F-69FECB67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0367-344B-46E9-9C7E-173DBA0A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0826-A7AB-4021-81BB-E6F8BCD3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3FE1-1917-4CD6-BFEB-7A772D93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1C6F-48B4-4C0B-A7A9-96FD613C9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220932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255200"/>
            <a:ext cx="264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B0E3-9346-4EDA-9978-0C7A690B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D481-B74F-4D2A-A6D3-07711C93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A898-5ED4-43C1-B115-9D3AF489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B55A-F13E-483B-8E56-44185ED0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03440" y="274320"/>
            <a:ext cx="7402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135B-BF26-42B6-A8C6-0C108050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37E5-784D-48D6-B959-6E7D7029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5520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DA6D-472B-49B2-81FE-5B2208B0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209320"/>
            <a:ext cx="4015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82296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8A4B-3CE3-4E6B-944A-3931F9FA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10596" t="0" r="32691" b="0"/>
          <a:stretch/>
        </p:blipFill>
        <p:spPr>
          <a:xfrm>
            <a:off x="0" y="19080"/>
            <a:ext cx="8305920" cy="1401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36e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A564-41FF-4F96-9FC0-0CC53ED5A240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36e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E75B-4E84-47C3-B469-7EF3C2469AC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10596" t="0" r="32691" b="0"/>
          <a:stretch/>
        </p:blipFill>
        <p:spPr>
          <a:xfrm>
            <a:off x="0" y="209520"/>
            <a:ext cx="9144000" cy="15429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436e"/>
                </a:solidFill>
                <a:latin typeface="Tahoma"/>
              </a:rPr>
              <a:t>WP6 – Preservation</a:t>
            </a:r>
            <a:endParaRPr b="0" lang="en-US" sz="40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eamus Ro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dvisory Board Me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Tirrenia, 7 December 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4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436e"/>
                </a:solidFill>
                <a:latin typeface="Tahoma"/>
              </a:rPr>
              <a:t>Presentation</a:t>
            </a:r>
            <a:endParaRPr b="0" lang="en-US" sz="3600" spc="-1" strike="noStrike">
              <a:solidFill>
                <a:srgbClr val="00436e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49080"/>
            <a:ext cx="8229600" cy="50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sentation of objectives and achievements done without sli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4T13:02:38Z</dcterms:created>
  <dc:creator>Yuli Koutrika</dc:creator>
  <dc:description/>
  <dc:language>en-US</dc:language>
  <cp:lastModifiedBy>Vittore Casarosa</cp:lastModifiedBy>
  <dcterms:modified xsi:type="dcterms:W3CDTF">2007-12-07T15:55:35Z</dcterms:modified>
  <cp:revision>222</cp:revision>
  <dc:subject/>
  <dc:title>Slide 1</dc:title>
</cp:coreProperties>
</file>