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436e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DA8F9-71D2-4720-9C22-B5F7090F75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"/>
          <p:cNvSpPr/>
          <p:nvPr/>
        </p:nvSpPr>
        <p:spPr>
          <a:xfrm>
            <a:off x="388620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7E058-087B-4FA4-91F7-75A6BC76E9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388620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6E3E7-4D13-49EC-B563-A2159982C9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388620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F0D9D-2F80-445A-ADD4-C40FD53E9B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"/>
          <p:cNvSpPr/>
          <p:nvPr/>
        </p:nvSpPr>
        <p:spPr>
          <a:xfrm>
            <a:off x="388620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AC9F0-82C6-49D6-A66C-0A57F943F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"/>
          <p:cNvSpPr/>
          <p:nvPr/>
        </p:nvSpPr>
        <p:spPr>
          <a:xfrm>
            <a:off x="388620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296A4-98C7-4E70-8DB9-B047937A2F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388620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A30F6-C68B-48C2-8EF1-3947F9B3EF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Develop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prot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per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dapt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techniques based 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MPEG-2 (block-based adaptation) and MPEG-4 (Simple and Core profiles) at event and object level </a:t>
            </a: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(UNIFI, UNIM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08080"/>
                </a:solidFill>
                <a:latin typeface="Times New Roman"/>
                <a:ea typeface="Arial"/>
              </a:rPr>
              <a:t>Development of </a:t>
            </a:r>
            <a:r>
              <a:rPr b="0" lang="en-GB" sz="1200" spc="-1" strike="noStrike">
                <a:solidFill>
                  <a:srgbClr val="808080"/>
                </a:solidFill>
                <a:latin typeface="Times New Roman"/>
                <a:ea typeface="Arial"/>
              </a:rPr>
              <a:t>two new performance measures for semantic adaptation, namely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  <a:ea typeface="Arial"/>
              </a:rPr>
              <a:t>Viewing Quality Loss</a:t>
            </a:r>
            <a:r>
              <a:rPr b="0" lang="en-GB" sz="1200" spc="-1" strike="noStrike">
                <a:solidFill>
                  <a:srgbClr val="808080"/>
                </a:solidFill>
                <a:latin typeface="Times New Roman"/>
                <a:ea typeface="Arial"/>
              </a:rPr>
              <a:t> and </a:t>
            </a:r>
            <a:r>
              <a:rPr b="0" i="1" lang="en-GB" sz="1200" spc="-1" strike="noStrike">
                <a:solidFill>
                  <a:srgbClr val="808080"/>
                </a:solidFill>
                <a:latin typeface="Times New Roman"/>
                <a:ea typeface="Arial"/>
              </a:rPr>
              <a:t>Bit-rate Cost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a complete system for mobile video streaming devoted to both annotated sport videos and video surveillance, comprising a H.264 encoder / decoder (UNIM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modal transcoding: automatic creation of text captions using ontology-based video annot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ed with Task 3.6. (UNIF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of the evaluation method for the developed user interfaces, based on evaluation framework which combines approaches emerging from social psychology research and human-computer interaction (F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interface prototypes that allow browsing and summarization using a variety of interfaces, including Abstract Interaction Units activity diagram editor and  interfaces generator for video browsing and editing (ROMA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B0C-5FEE-4A25-8D3B-1EEAD001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566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872160"/>
            <a:ext cx="87566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74B-2307-493C-A7ED-F9E0D1C6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6000" y="152352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7216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6000" y="387216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9FE-5571-4EF0-8799-5B6AE1CA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8195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1523520"/>
            <a:ext cx="28195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0240" y="1523520"/>
            <a:ext cx="28195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872160"/>
            <a:ext cx="28195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872160"/>
            <a:ext cx="28195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0240" y="3872160"/>
            <a:ext cx="28195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527-F9BE-4BF5-82EE-8AA63A11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C800-83DF-4012-91A0-81CA32C4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7566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83CC-D143-442E-82B0-E4DC903A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56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13B4-BA5C-4DF0-A912-7B81E86C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3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000" y="1523520"/>
            <a:ext cx="4273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4E84-C6E1-4B31-B6F8-A74266FD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6BB9-A0D2-4123-8C71-56347228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99840" y="304920"/>
            <a:ext cx="75373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3C5E-A534-4B71-A6B3-6650540F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523520"/>
            <a:ext cx="4273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7216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C266-158B-4CA3-91B0-5A44355C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7566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7E8-EF34-4460-9249-131D8A1E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3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6000" y="152352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000" y="387216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582D-1BCD-444A-A8D8-2C5D9C6A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000" y="152352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72160"/>
            <a:ext cx="87566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F172-28E2-4A57-BB7B-0F3EB37D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566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72160"/>
            <a:ext cx="87566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464B-B0CF-4BC9-B9F4-0E3E9120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6000" y="152352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7216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6000" y="387216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AF5B-9ED6-456E-BA21-8BE6DE54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8195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600" y="1523520"/>
            <a:ext cx="28195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0240" y="1523520"/>
            <a:ext cx="28195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72160"/>
            <a:ext cx="28195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600" y="3872160"/>
            <a:ext cx="28195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0240" y="3872160"/>
            <a:ext cx="28195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E2D5-B97C-48F1-9B49-306CC466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56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A70-1B8D-444F-9B82-34D2367D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3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6000" y="1523520"/>
            <a:ext cx="4273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568-2099-4405-A7FC-5729DB98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3B35-29E0-417B-A09B-2DB70850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304920"/>
            <a:ext cx="75373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F05-085F-43A5-815B-836D569F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6000" y="1523520"/>
            <a:ext cx="4273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87216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9BB-F7C7-4635-9B0A-04F808D7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3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6000" y="152352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00" y="387216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747-A8C4-4D46-B845-EEFB3632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00" y="1523520"/>
            <a:ext cx="4273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72160"/>
            <a:ext cx="87566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E4A-55F8-4313-879B-3E465145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10387" t="0" r="24009" b="0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436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523520"/>
            <a:ext cx="8756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76000"/>
              </a:lnSpc>
              <a:spcBef>
                <a:spcPts val="700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700"/>
              </a:spcBef>
              <a:buClr>
                <a:srgbClr val="00436e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00436e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5920" indent="-228600">
              <a:lnSpc>
                <a:spcPct val="76000"/>
              </a:lnSpc>
              <a:spcBef>
                <a:spcPts val="700"/>
              </a:spcBef>
              <a:buClr>
                <a:srgbClr val="00436e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28600">
              <a:lnSpc>
                <a:spcPct val="76000"/>
              </a:lnSpc>
              <a:spcBef>
                <a:spcPts val="700"/>
              </a:spcBef>
              <a:buClr>
                <a:srgbClr val="00436e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28600">
              <a:lnSpc>
                <a:spcPct val="76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28600">
              <a:lnSpc>
                <a:spcPct val="76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898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400" y="640080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898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591691-98FC-41D2-94E7-2C0BF41E2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436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898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893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898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235CF3-CD13-43BD-85DE-69ED2EFB1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76000"/>
              </a:lnSpc>
              <a:spcBef>
                <a:spcPts val="700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700"/>
              </a:spcBef>
              <a:buClr>
                <a:srgbClr val="00436e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00436e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5920" indent="-228600">
              <a:lnSpc>
                <a:spcPct val="76000"/>
              </a:lnSpc>
              <a:spcBef>
                <a:spcPts val="700"/>
              </a:spcBef>
              <a:buClr>
                <a:srgbClr val="00436e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28600">
              <a:lnSpc>
                <a:spcPct val="76000"/>
              </a:lnSpc>
              <a:spcBef>
                <a:spcPts val="700"/>
              </a:spcBef>
              <a:buClr>
                <a:srgbClr val="00436e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436e"/>
                </a:solidFill>
                <a:latin typeface="Arial"/>
              </a:rPr>
              <a:t>WP5:</a:t>
            </a:r>
            <a:r>
              <a:rPr b="1" lang="en-US" sz="2800" spc="-1" strike="noStrike">
                <a:solidFill>
                  <a:srgbClr val="00436e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436e"/>
                </a:solidFill>
                <a:latin typeface="Arial"/>
              </a:rPr>
              <a:t>Interoperability</a:t>
            </a:r>
            <a:endParaRPr b="1" lang="en-US" sz="28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10594" t="0" r="32691" b="0"/>
          <a:stretch/>
        </p:blipFill>
        <p:spPr>
          <a:xfrm>
            <a:off x="0" y="20952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684360" y="4076640"/>
            <a:ext cx="7772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 leaders:</a:t>
            </a:r>
            <a:br>
              <a:rPr sz="2000"/>
            </a:br>
            <a:r>
              <a:rPr b="0" lang="en-US" sz="1800" spc="-1" strike="noStrike">
                <a:solidFill>
                  <a:srgbClr val="00436e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436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z Lyo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O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086600" y="6400800"/>
            <a:ext cx="1898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3C9EA-6798-401A-94E6-873CC29CA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436e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51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451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Objectives :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00436e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explore the potential of new models, algorithms, methodologies and processes i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ety of technical applications, institutional frameworks and cross-sectoral environments, which will lead to the creation of guidelines and recommendations of best practice for dissemination to the widest possible community of inter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400"/>
              </a:spcBef>
              <a:buClr>
                <a:srgbClr val="00436e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evelop prototypes which demonstrate the application of data models, metadata standards, metadata schema profiles and schema mappings for enhanced semantic interop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work in the domains of e-Learning and cultural heritage to inform the user requirements, design, testing and evaluation of the prototype syst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36e"/>
                </a:solidFill>
                <a:latin typeface="Arial"/>
              </a:rPr>
              <a:t>Task 5.4:  Interoperability Support between Digital Libraries and e-Learning Applications</a:t>
            </a:r>
            <a:endParaRPr b="1" lang="en-US" sz="24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56640" cy="284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315360">
              <a:lnSpc>
                <a:spcPct val="10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upport interoperability of e-Learning applications with Digital Libraries in order to allow the contents of audiovisual DLs to be exploited by eLearning applications following standard-based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Research 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315360" algn="just">
              <a:lnSpc>
                <a:spcPct val="9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architectural requirements and workflows for effectively supporting eLearning applications running over digital librar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315360" algn="just">
              <a:lnSpc>
                <a:spcPct val="9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interoperability requirements for DL and eLearning standa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315360" algn="just">
              <a:lnSpc>
                <a:spcPct val="9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ition of an Interoperability Framework and Architecture for eLearning Apps over D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315360" algn="just">
              <a:lnSpc>
                <a:spcPct val="9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de a framework for semantic enhancement of 3D Objects and scenes to be used as eLearning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3680" y="5045040"/>
          <a:ext cx="8756640" cy="1736640"/>
        </p:xfrm>
        <a:graphic>
          <a:graphicData uri="http://schemas.openxmlformats.org/drawingml/2006/table">
            <a:tbl>
              <a:tblPr/>
              <a:tblGrid>
                <a:gridCol w="5951520"/>
                <a:gridCol w="2805120"/>
              </a:tblGrid>
              <a:tr h="434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 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Technical University of Crete (TUC), Gre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tavros Christodoulak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onian University of Greece (UoI), Gre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rantos Kapidak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 Office for Library Networking (UKOLN), 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>
                        <a:lnSpc>
                          <a:spcPct val="8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z Ly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36e"/>
                </a:solidFill>
                <a:latin typeface="Arial"/>
              </a:rPr>
              <a:t>Task 5.4: Results</a:t>
            </a:r>
            <a:endParaRPr b="1" lang="en-US" sz="24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pecification of an interoperability (service oriented) architecture (ASIDE) to allow interoperability of elearning applications and Digita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ation of a pedagogy driven personalization framework that allows the automatic creation of personalized learning experiences  based on learner’s individual needs and abstract training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a proof-of-concept demonstrator for the ASIDE architecture including personalization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aboration of a framework to allow semantic enhancement and interoperability of 3D Objects and Scenes appropriate for science and engineering applications. Prototype implementation of I3D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10 scientific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36e"/>
                </a:solidFill>
                <a:latin typeface="Arial"/>
              </a:rPr>
              <a:t>Task 5.5: Ontology Driven Interoperability</a:t>
            </a:r>
            <a:endParaRPr b="1" lang="en-US" sz="24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440" y="152352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vestigation and development of methods for the integration of heterogeneous data types, models, upper level ontologies and domain specific knowledge organization systems (K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819520"/>
          <a:ext cx="8534520" cy="3806640"/>
        </p:xfrm>
        <a:graphic>
          <a:graphicData uri="http://schemas.openxmlformats.org/drawingml/2006/table">
            <a:tbl>
              <a:tblPr/>
              <a:tblGrid>
                <a:gridCol w="5867280"/>
                <a:gridCol w="2667240"/>
              </a:tblGrid>
              <a:tr h="345960"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 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ORTH, Gre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tin Doer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 University of Crete (TUC), Gre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vros Christodoulak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onian University of Greece (UoI), Gre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rantos Kapidak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hens University of Economics and Business (AUEB), Gre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nos Constantopou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TA-Szta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szlo Kova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versity of Lund (ULUND), 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. Ko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versity of Glamorgan (UGLA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glas Tudh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versity of Queensland (Uqueensland), 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e Hun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ges Teknisk-Naturvitenskapelige Universitet NTNU (NTNU), 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eborg Solvbe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erial University (Imperial), U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0" bIns="0" anchor="ctr">
                      <a:noAutofit/>
                    </a:bodyPr>
                    <a:p>
                      <a:pPr marL="343080" indent="-343080">
                        <a:lnSpc>
                          <a:spcPct val="5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lores Ioriz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24"/>
          <p:cNvSpPr/>
          <p:nvPr/>
        </p:nvSpPr>
        <p:spPr>
          <a:xfrm>
            <a:off x="7176960" y="52164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373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36e"/>
                </a:solidFill>
                <a:latin typeface="Arial"/>
              </a:rPr>
              <a:t>Task 5.5: results</a:t>
            </a:r>
            <a:endParaRPr b="1" lang="en-US" sz="24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566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2920" indent="-322920">
              <a:lnSpc>
                <a:spcPct val="100000"/>
              </a:lnSpc>
              <a:spcBef>
                <a:spcPts val="499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zation of CIDOC/CRM with FR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67840">
              <a:lnSpc>
                <a:spcPct val="10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of bibliographic records into cultural heritag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67840">
              <a:lnSpc>
                <a:spcPct val="10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of FRBR with 42 classes and 57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67840">
              <a:lnSpc>
                <a:spcPct val="10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umed by CRM with minimal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67840">
              <a:lnSpc>
                <a:spcPct val="10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ed by IFLA to be reviewed for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920" indent="-322920">
              <a:lnSpc>
                <a:spcPct val="100000"/>
              </a:lnSpc>
              <a:spcBef>
                <a:spcPts val="499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ramework for interoperability support between CIDOC/CRM and MPEG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67840">
              <a:lnSpc>
                <a:spcPct val="10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ation of Cultural Heritage Documentation in automatically annotating Multimedia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67840">
              <a:lnSpc>
                <a:spcPct val="10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the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920" indent="-322920">
              <a:lnSpc>
                <a:spcPct val="100000"/>
              </a:lnSpc>
              <a:spcBef>
                <a:spcPts val="499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ramework for interoperability support between XML Schema and 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67840">
              <a:lnSpc>
                <a:spcPct val="10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ing XML Schema based applications to interoperate with OWL in order to be enriched with OWL ontologies and also use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67840">
              <a:lnSpc>
                <a:spcPct val="100000"/>
              </a:lnSpc>
              <a:spcBef>
                <a:spcPts val="550"/>
              </a:spcBef>
              <a:buClr>
                <a:srgbClr val="00436e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the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920" indent="-322920">
              <a:lnSpc>
                <a:spcPct val="100000"/>
              </a:lnSpc>
              <a:spcBef>
                <a:spcPts val="700"/>
              </a:spcBef>
              <a:buClr>
                <a:srgbClr val="00436e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20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ktarios</dc:creator>
  <dc:description/>
  <dc:language>en-US</dc:language>
  <cp:lastModifiedBy>nikos</cp:lastModifiedBy>
  <dcterms:modified xsi:type="dcterms:W3CDTF">2007-12-07T11:55:17Z</dcterms:modified>
  <cp:revision>152</cp:revision>
  <dc:subject/>
  <dc:title>DELOS  Network of Excellence  on Digital Libraries  [Cluster</dc:title>
</cp:coreProperties>
</file>