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72160"/>
            <a:ext cx="8763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387216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52352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52352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7216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387216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387216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99840" y="304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8880" y="387216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8763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72160"/>
            <a:ext cx="8763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8880" y="387216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1400" y="152352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4200" y="152352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7216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1400" y="387216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4200" y="3872160"/>
            <a:ext cx="2821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9840" y="304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387216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523520"/>
            <a:ext cx="427608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72160"/>
            <a:ext cx="8763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0387" t="0" r="24012" b="0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436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2" marL="1020600" indent="-349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3" marL="1338120" indent="-3142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4" marL="1679400" indent="-338040"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5" marL="1679400" indent="-3380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6" marL="1679400" indent="-3380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9D63-7C3D-427A-AFE3-E2A57B31A67C}" type="slidenum">
              <a:rPr b="0" lang="it-IT" sz="1200" spc="-1" strike="noStrike">
                <a:solidFill>
                  <a:srgbClr val="00436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3142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79400" indent="-338040">
              <a:spcBef>
                <a:spcPts val="499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79400" indent="-3380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0596" t="0" r="32691" b="0"/>
          <a:stretch/>
        </p:blipFill>
        <p:spPr>
          <a:xfrm>
            <a:off x="0" y="20952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2130480"/>
            <a:ext cx="82803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436e"/>
                </a:solidFill>
                <a:latin typeface="Arial"/>
              </a:rPr>
              <a:t>DELOS NoE on Digital Librar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18920" y="4437000"/>
            <a:ext cx="583236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P2 –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d Pers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9231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436e"/>
                </a:solidFill>
                <a:latin typeface="Arial"/>
              </a:rPr>
              <a:t>T2.10: Preference Modeling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Aim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user preference management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query personalization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user notification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document customization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Results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framework for qualitative &amp; quantitative preferences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new or expanded “uni-modal” models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query modification based on user models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common foundations for both types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Products: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query personalization s/w (</a:t>
            </a:r>
            <a:r>
              <a:rPr b="0" i="1" lang="en-US" sz="3000" spc="-1" strike="noStrike">
                <a:solidFill>
                  <a:srgbClr val="00436e"/>
                </a:solidFill>
                <a:latin typeface="Arial"/>
              </a:rPr>
              <a:t>individual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9231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36e"/>
                </a:solidFill>
                <a:latin typeface="Arial"/>
              </a:rPr>
              <a:t>JPA4 Activities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Workshop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10th DELOS Thematic Workshop on “</a:t>
            </a:r>
            <a:r>
              <a:rPr b="0" i="1" lang="en-US" sz="3000" spc="-1" strike="noStrike">
                <a:solidFill>
                  <a:srgbClr val="00436e"/>
                </a:solidFill>
                <a:latin typeface="Arial"/>
              </a:rPr>
              <a:t>Personalization and Context in Digital Libraries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”, Corfu Island, Greece.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In association with the User Modeling Conference &lt;25-29 June 2007&gt;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Task workshops/meetings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 two 0.5-2 days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Researcher exchanges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 three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Short visits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 three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9231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36e"/>
                </a:solidFill>
                <a:latin typeface="Arial"/>
              </a:rPr>
              <a:t>WP2 Themes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4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 Access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 interaction with a single information provider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 Integration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 interaction with multiple information providers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Personalization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 customization of information and interaction to user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9231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36e"/>
                </a:solidFill>
                <a:latin typeface="Arial"/>
              </a:rPr>
              <a:t>WP2 Tasks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4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T2.6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- Advanced Access Structures for Complex Similarity Measures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T2.7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- Application of the P2P Paradigm in Digital Libraries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T2.8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- Personalized Query Routing in P2P Federations of Digital Libraries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T2.9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- Context-dependent Access to Digital Libraries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T2.10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- Modeling of User Preferences in Digital Libraries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9231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36e"/>
                </a:solidFill>
                <a:latin typeface="Arial"/>
              </a:rPr>
              <a:t>WP2 Tasks and Themes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 Access: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T2.6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 Integration: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T2.7 – T2.8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Personalization: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T2.8 – T2.9 – T2.10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-roximity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of objects as similarity measure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-2P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as the distributed architecture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P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-rofiles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  <a:ea typeface="Times New Roman"/>
              </a:rPr>
              <a:t>of users/context for customization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0416200">
            <a:off x="4642920" y="2204640"/>
            <a:ext cx="2592720" cy="7192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92316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36e"/>
                </a:solidFill>
                <a:latin typeface="Arial"/>
              </a:rPr>
              <a:t>T2.6: Similarity Indexing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Aim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indexing for metric spaces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nearest-neighbor, range, and ranking queries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multimedia data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generic in the distance measure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Results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indexing w/ low similarity search cost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combination of exact &amp; similarity match XML queries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M-CAN distributed similarity search structure (metric search to low-D problem)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Products:</a:t>
            </a:r>
            <a:r>
              <a:rPr b="0" lang="en-US" sz="3000" spc="-1" strike="noStrike">
                <a:solidFill>
                  <a:srgbClr val="00436e"/>
                </a:solidFill>
                <a:latin typeface="Arial"/>
              </a:rPr>
              <a:t> MILOS multimedia content mgmt system, other image indexing &amp; retrieval s/w</a:t>
            </a:r>
            <a:endParaRPr b="0" lang="en-US" sz="3000" spc="-1" strike="noStrike">
              <a:solidFill>
                <a:srgbClr val="00436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3440" y="167760"/>
            <a:ext cx="740232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436e"/>
                </a:solidFill>
                <a:latin typeface="Arial"/>
              </a:rPr>
              <a:t>T2.7: Peer-to-peer digital libraries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3960"/>
            <a:ext cx="8820360" cy="503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24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436e"/>
                </a:solidFill>
                <a:latin typeface="Arial"/>
              </a:rPr>
              <a:t>A peer-to-peer infrastructure for digital libraries</a:t>
            </a:r>
            <a:endParaRPr b="0" lang="en-US" sz="2100" spc="-1" strike="noStrike">
              <a:solidFill>
                <a:srgbClr val="00436e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436e"/>
                </a:solidFill>
                <a:latin typeface="Arial"/>
              </a:rPr>
              <a:t>Distributed content and routing indexes</a:t>
            </a:r>
            <a:endParaRPr b="0" lang="en-US" sz="2100" spc="-1" strike="noStrike">
              <a:solidFill>
                <a:srgbClr val="00436e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436e"/>
                </a:solidFill>
                <a:latin typeface="Arial"/>
              </a:rPr>
              <a:t>Distributed query processing </a:t>
            </a:r>
            <a:endParaRPr b="0" lang="en-US" sz="2100" spc="-1" strike="noStrike">
              <a:solidFill>
                <a:srgbClr val="00436e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Foundations of</a:t>
            </a:r>
            <a:br>
              <a:rPr sz="2200"/>
            </a:b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reformulation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Schema mapping</a:t>
            </a:r>
            <a:br>
              <a:rPr sz="2200"/>
            </a:b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indexes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Quality-of-service,</a:t>
            </a:r>
            <a:br>
              <a:rPr sz="2200"/>
            </a:b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data-driven</a:t>
            </a:r>
            <a:br>
              <a:rPr sz="2200"/>
            </a:b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evaluation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9280" y="3060720"/>
            <a:ext cx="491004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3440" y="274320"/>
            <a:ext cx="754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CH" sz="3200" spc="-1" strike="noStrike">
                <a:solidFill>
                  <a:srgbClr val="00436e"/>
                </a:solidFill>
                <a:latin typeface="Arial"/>
              </a:rPr>
              <a:t>T2.8: Personalization in P2P Systems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52920"/>
            <a:ext cx="91440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ry routin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en by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istributed statistic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ers‘ content quality, content overlap, freshness, authority, trus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100920"/>
            <a:ext cx="9144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tain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emantic/social/shortcut connections (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9144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oit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dividual a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munity behavi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bookmarks, tags, clicks, 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91080" y="2633760"/>
            <a:ext cx="487080" cy="485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8120" y="2633760"/>
            <a:ext cx="426960" cy="425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82760" y="2439720"/>
            <a:ext cx="6989400" cy="2877120"/>
            <a:chOff x="482760" y="2439720"/>
            <a:chExt cx="6989400" cy="2877120"/>
          </a:xfrm>
        </p:grpSpPr>
        <p:cxnSp>
          <p:nvCxnSpPr>
            <p:cNvPr id="102" name=""/>
            <p:cNvCxnSpPr>
              <a:stCxn id="103" idx="0"/>
              <a:endCxn id="99" idx="0"/>
            </p:cNvCxnSpPr>
            <p:nvPr/>
          </p:nvCxnSpPr>
          <p:spPr>
            <a:xfrm flipH="1" flipV="1" rot="5400000">
              <a:off x="2410200" y="1229400"/>
              <a:ext cx="121320" cy="2928600"/>
            </a:xfrm>
            <a:prstGeom prst="curvedConnector5">
              <a:avLst>
                <a:gd name="adj1" fmla="val 259821"/>
                <a:gd name="adj2" fmla="val 50000"/>
                <a:gd name="adj3" fmla="val 259821"/>
              </a:avLst>
            </a:prstGeom>
            <a:ln w="57240">
              <a:solidFill>
                <a:srgbClr val="009900"/>
              </a:solidFill>
              <a:miter/>
            </a:ln>
          </p:spPr>
        </p:cxnSp>
        <p:cxnSp>
          <p:nvCxnSpPr>
            <p:cNvPr id="104" name=""/>
            <p:cNvCxnSpPr>
              <a:stCxn id="105" idx="2"/>
              <a:endCxn id="106" idx="1"/>
            </p:cNvCxnSpPr>
            <p:nvPr/>
          </p:nvCxnSpPr>
          <p:spPr>
            <a:xfrm flipH="1" rot="16200000">
              <a:off x="4193640" y="4378680"/>
              <a:ext cx="214920" cy="611280"/>
            </a:xfrm>
            <a:prstGeom prst="curvedConnector2">
              <a:avLst/>
            </a:prstGeom>
            <a:ln w="57240">
              <a:solidFill>
                <a:srgbClr val="009900"/>
              </a:solidFill>
              <a:miter/>
            </a:ln>
          </p:spPr>
        </p:cxnSp>
        <p:cxnSp>
          <p:nvCxnSpPr>
            <p:cNvPr id="107" name=""/>
            <p:cNvCxnSpPr>
              <a:stCxn id="106" idx="3"/>
              <a:endCxn id="100" idx="1"/>
            </p:cNvCxnSpPr>
            <p:nvPr/>
          </p:nvCxnSpPr>
          <p:spPr>
            <a:xfrm flipV="1">
              <a:off x="5033520" y="2846160"/>
              <a:ext cx="1524600" cy="1946160"/>
            </a:xfrm>
            <a:prstGeom prst="curvedConnector5">
              <a:avLst>
                <a:gd name="adj1" fmla="val 49952"/>
                <a:gd name="adj2" fmla="val 49990"/>
                <a:gd name="adj3" fmla="val 49952"/>
              </a:avLst>
            </a:prstGeom>
            <a:ln w="57240">
              <a:solidFill>
                <a:srgbClr val="009900"/>
              </a:solidFill>
              <a:miter/>
            </a:ln>
          </p:spPr>
        </p:cxnSp>
        <p:cxnSp>
          <p:nvCxnSpPr>
            <p:cNvPr id="108" name=""/>
            <p:cNvCxnSpPr>
              <a:stCxn id="109" idx="3"/>
              <a:endCxn id="110" idx="2"/>
            </p:cNvCxnSpPr>
            <p:nvPr/>
          </p:nvCxnSpPr>
          <p:spPr>
            <a:xfrm flipV="1">
              <a:off x="6923520" y="3848760"/>
              <a:ext cx="549000" cy="1064160"/>
            </a:xfrm>
            <a:prstGeom prst="curvedConnector2">
              <a:avLst/>
            </a:prstGeom>
            <a:ln w="57240">
              <a:solidFill>
                <a:srgbClr val="009900"/>
              </a:solidFill>
              <a:miter/>
            </a:ln>
          </p:spPr>
        </p:cxnSp>
        <p:cxnSp>
          <p:nvCxnSpPr>
            <p:cNvPr id="111" name=""/>
            <p:cNvCxnSpPr>
              <a:stCxn id="110" idx="0"/>
              <a:endCxn id="100" idx="2"/>
            </p:cNvCxnSpPr>
            <p:nvPr/>
          </p:nvCxnSpPr>
          <p:spPr>
            <a:xfrm flipV="1" rot="16200000">
              <a:off x="6938640" y="2890080"/>
              <a:ext cx="366480" cy="701280"/>
            </a:xfrm>
            <a:prstGeom prst="curvedConnector5">
              <a:avLst>
                <a:gd name="adj1" fmla="val 49754"/>
                <a:gd name="adj2" fmla="val 49974"/>
                <a:gd name="adj3" fmla="val 49754"/>
              </a:avLst>
            </a:prstGeom>
            <a:ln w="57240">
              <a:solidFill>
                <a:srgbClr val="009900"/>
              </a:solidFill>
              <a:miter/>
            </a:ln>
          </p:spPr>
        </p:cxnSp>
        <p:cxnSp>
          <p:nvCxnSpPr>
            <p:cNvPr id="112" name=""/>
            <p:cNvCxnSpPr>
              <a:stCxn id="109" idx="2"/>
              <a:endCxn id="113" idx="3"/>
            </p:cNvCxnSpPr>
            <p:nvPr/>
          </p:nvCxnSpPr>
          <p:spPr>
            <a:xfrm flipV="1" rot="16200000">
              <a:off x="3691440" y="2106000"/>
              <a:ext cx="638280" cy="5398200"/>
            </a:xfrm>
            <a:prstGeom prst="curvedConnector5">
              <a:avLst>
                <a:gd name="adj1" fmla="val -30248"/>
                <a:gd name="adj2" fmla="val 25776"/>
                <a:gd name="adj3" fmla="val -30248"/>
              </a:avLst>
            </a:prstGeom>
            <a:ln w="57240">
              <a:solidFill>
                <a:srgbClr val="009900"/>
              </a:solidFill>
              <a:miter/>
            </a:ln>
          </p:spPr>
        </p:cxnSp>
        <p:cxnSp>
          <p:nvCxnSpPr>
            <p:cNvPr id="114" name=""/>
            <p:cNvCxnSpPr>
              <a:stCxn id="113" idx="1"/>
              <a:endCxn id="103" idx="1"/>
            </p:cNvCxnSpPr>
            <p:nvPr/>
          </p:nvCxnSpPr>
          <p:spPr>
            <a:xfrm rot="10800000">
              <a:off x="761400" y="2995920"/>
              <a:ext cx="123120" cy="1490760"/>
            </a:xfrm>
            <a:prstGeom prst="curvedConnector5">
              <a:avLst>
                <a:gd name="adj1" fmla="val 327272"/>
                <a:gd name="adj2" fmla="val 50000"/>
                <a:gd name="adj3" fmla="val 327272"/>
              </a:avLst>
            </a:prstGeom>
            <a:ln w="57240">
              <a:solidFill>
                <a:srgbClr val="009900"/>
              </a:solidFill>
              <a:miter/>
            </a:ln>
          </p:spPr>
        </p:cxnSp>
        <p:cxnSp>
          <p:nvCxnSpPr>
            <p:cNvPr id="115" name=""/>
            <p:cNvCxnSpPr>
              <a:stCxn id="99" idx="1"/>
              <a:endCxn id="105" idx="1"/>
            </p:cNvCxnSpPr>
            <p:nvPr/>
          </p:nvCxnSpPr>
          <p:spPr>
            <a:xfrm flipH="1" flipV="1" rot="10800000">
              <a:off x="3689640" y="2875680"/>
              <a:ext cx="61200" cy="1459440"/>
            </a:xfrm>
            <a:prstGeom prst="curvedConnector5">
              <a:avLst>
                <a:gd name="adj1" fmla="val -319526"/>
                <a:gd name="adj2" fmla="val 49987"/>
                <a:gd name="adj3" fmla="val -319526"/>
              </a:avLst>
            </a:prstGeom>
            <a:ln w="57240">
              <a:solidFill>
                <a:srgbClr val="009900"/>
              </a:solidFill>
              <a:miter/>
            </a:ln>
          </p:spPr>
        </p:cxnSp>
      </p:grpSp>
      <p:sp>
        <p:nvSpPr>
          <p:cNvPr id="103" name=""/>
          <p:cNvSpPr/>
          <p:nvPr/>
        </p:nvSpPr>
        <p:spPr>
          <a:xfrm>
            <a:off x="762120" y="2754360"/>
            <a:ext cx="488880" cy="4856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57960" y="3424320"/>
            <a:ext cx="426960" cy="423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5120" y="4743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78680" y="47862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65560" y="35082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21760" y="35082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37520" y="46022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96200" y="4699080"/>
            <a:ext cx="426960" cy="425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05480" y="4578480"/>
            <a:ext cx="428400" cy="425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72120" y="48434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3440" y="34466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52800" y="442116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84160" y="4273560"/>
            <a:ext cx="428760" cy="423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1200" y="4092480"/>
            <a:ext cx="487440" cy="484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27960" y="35226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89080" y="2471760"/>
            <a:ext cx="4646880" cy="1986120"/>
            <a:chOff x="1189080" y="2471760"/>
            <a:chExt cx="4646880" cy="1986120"/>
          </a:xfrm>
        </p:grpSpPr>
        <p:sp>
          <p:nvSpPr>
            <p:cNvPr id="126" name=""/>
            <p:cNvSpPr/>
            <p:nvPr/>
          </p:nvSpPr>
          <p:spPr>
            <a:xfrm>
              <a:off x="4056120" y="2510280"/>
              <a:ext cx="1768320" cy="182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1160" y="2471760"/>
              <a:ext cx="1774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url x: 37, 44, 12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56120" y="4209840"/>
              <a:ext cx="1768320" cy="181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61160" y="4169520"/>
              <a:ext cx="1774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url y: 75, 43, 12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89080" y="3238920"/>
              <a:ext cx="1768320" cy="181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93760" y="3200040"/>
              <a:ext cx="1762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url z: 54, 128, 7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2" name=""/>
          <p:cNvCxnSpPr/>
          <p:nvPr/>
        </p:nvCxnSpPr>
        <p:spPr>
          <a:xfrm flipH="1" flipV="1" rot="5400000">
            <a:off x="5127480" y="1458360"/>
            <a:ext cx="486360" cy="2835720"/>
          </a:xfrm>
          <a:prstGeom prst="curvedConnector5">
            <a:avLst>
              <a:gd name="adj1" fmla="val -39777"/>
              <a:gd name="adj2" fmla="val 35766"/>
              <a:gd name="adj3" fmla="val -39777"/>
            </a:avLst>
          </a:prstGeom>
          <a:ln w="57240">
            <a:solidFill>
              <a:srgbClr val="ff3300"/>
            </a:solidFill>
            <a:miter/>
          </a:ln>
        </p:spPr>
      </p:cxnSp>
      <p:cxnSp>
        <p:nvCxnSpPr>
          <p:cNvPr id="133" name=""/>
          <p:cNvCxnSpPr/>
          <p:nvPr/>
        </p:nvCxnSpPr>
        <p:spPr>
          <a:xfrm rot="5400000">
            <a:off x="5723640" y="3848040"/>
            <a:ext cx="1853280" cy="275400"/>
          </a:xfrm>
          <a:prstGeom prst="curvedConnector5">
            <a:avLst>
              <a:gd name="adj1" fmla="val 44200"/>
              <a:gd name="adj2" fmla="val 85078"/>
              <a:gd name="adj3" fmla="val 44200"/>
            </a:avLst>
          </a:prstGeom>
          <a:ln w="57240">
            <a:solidFill>
              <a:srgbClr val="ff3300"/>
            </a:solidFill>
            <a:miter/>
          </a:ln>
        </p:spPr>
      </p:cxnSp>
      <p:cxnSp>
        <p:nvCxnSpPr>
          <p:cNvPr id="134" name=""/>
          <p:cNvCxnSpPr/>
          <p:nvPr/>
        </p:nvCxnSpPr>
        <p:spPr>
          <a:xfrm flipV="1">
            <a:off x="1330200" y="2876040"/>
            <a:ext cx="2378880" cy="1610640"/>
          </a:xfrm>
          <a:prstGeom prst="curvedConnector5">
            <a:avLst>
              <a:gd name="adj1" fmla="val 79854"/>
              <a:gd name="adj2" fmla="val 49988"/>
              <a:gd name="adj3" fmla="val 79854"/>
            </a:avLst>
          </a:prstGeom>
          <a:ln w="57240">
            <a:solidFill>
              <a:srgbClr val="ff3300"/>
            </a:solidFill>
            <a:miter/>
          </a:ln>
        </p:spPr>
      </p:cxnSp>
      <p:grpSp>
        <p:nvGrpSpPr>
          <p:cNvPr id="135" name=""/>
          <p:cNvGrpSpPr/>
          <p:nvPr/>
        </p:nvGrpSpPr>
        <p:grpSpPr>
          <a:xfrm>
            <a:off x="500040" y="2439720"/>
            <a:ext cx="6989400" cy="2877120"/>
            <a:chOff x="500040" y="2439720"/>
            <a:chExt cx="6989400" cy="2877120"/>
          </a:xfrm>
        </p:grpSpPr>
        <p:cxnSp>
          <p:nvCxnSpPr>
            <p:cNvPr id="136" name=""/>
            <p:cNvCxnSpPr/>
            <p:nvPr/>
          </p:nvCxnSpPr>
          <p:spPr>
            <a:xfrm flipH="1" flipV="1" rot="5400000">
              <a:off x="2427480" y="1229400"/>
              <a:ext cx="121320" cy="2928600"/>
            </a:xfrm>
            <a:prstGeom prst="curvedConnector5">
              <a:avLst>
                <a:gd name="adj1" fmla="val 259821"/>
                <a:gd name="adj2" fmla="val 50000"/>
                <a:gd name="adj3" fmla="val 259821"/>
              </a:avLst>
            </a:prstGeom>
            <a:ln w="57240">
              <a:solidFill>
                <a:srgbClr val="ff3300"/>
              </a:solidFill>
              <a:miter/>
            </a:ln>
          </p:spPr>
        </p:cxnSp>
        <p:cxnSp>
          <p:nvCxnSpPr>
            <p:cNvPr id="137" name=""/>
            <p:cNvCxnSpPr/>
            <p:nvPr/>
          </p:nvCxnSpPr>
          <p:spPr>
            <a:xfrm flipH="1" rot="16200000">
              <a:off x="4210920" y="4378680"/>
              <a:ext cx="214920" cy="611280"/>
            </a:xfrm>
            <a:prstGeom prst="curvedConnector2">
              <a:avLst/>
            </a:prstGeom>
            <a:ln w="57240">
              <a:solidFill>
                <a:srgbClr val="ff3300"/>
              </a:solidFill>
              <a:miter/>
            </a:ln>
          </p:spPr>
        </p:cxnSp>
        <p:cxnSp>
          <p:nvCxnSpPr>
            <p:cNvPr id="138" name=""/>
            <p:cNvCxnSpPr/>
            <p:nvPr/>
          </p:nvCxnSpPr>
          <p:spPr>
            <a:xfrm flipV="1">
              <a:off x="5050800" y="2846160"/>
              <a:ext cx="1524600" cy="1946160"/>
            </a:xfrm>
            <a:prstGeom prst="curvedConnector5">
              <a:avLst>
                <a:gd name="adj1" fmla="val 49952"/>
                <a:gd name="adj2" fmla="val 49990"/>
                <a:gd name="adj3" fmla="val 49952"/>
              </a:avLst>
            </a:prstGeom>
            <a:ln w="57240">
              <a:solidFill>
                <a:srgbClr val="ff3300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 flipV="1">
              <a:off x="6940800" y="3848760"/>
              <a:ext cx="549000" cy="1064160"/>
            </a:xfrm>
            <a:prstGeom prst="curvedConnector2">
              <a:avLst/>
            </a:prstGeom>
            <a:ln w="57240">
              <a:solidFill>
                <a:srgbClr val="ff3300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 rot="16200000">
              <a:off x="6955920" y="2890080"/>
              <a:ext cx="366480" cy="701280"/>
            </a:xfrm>
            <a:prstGeom prst="curvedConnector5">
              <a:avLst>
                <a:gd name="adj1" fmla="val 49754"/>
                <a:gd name="adj2" fmla="val 49974"/>
                <a:gd name="adj3" fmla="val 49754"/>
              </a:avLst>
            </a:prstGeom>
            <a:ln w="57240">
              <a:solidFill>
                <a:srgbClr val="ff3300"/>
              </a:solidFill>
              <a:miter/>
            </a:ln>
          </p:spPr>
        </p:cxnSp>
        <p:cxnSp>
          <p:nvCxnSpPr>
            <p:cNvPr id="141" name=""/>
            <p:cNvCxnSpPr/>
            <p:nvPr/>
          </p:nvCxnSpPr>
          <p:spPr>
            <a:xfrm flipV="1" rot="16200000">
              <a:off x="3708720" y="2106000"/>
              <a:ext cx="638280" cy="5398200"/>
            </a:xfrm>
            <a:prstGeom prst="curvedConnector5">
              <a:avLst>
                <a:gd name="adj1" fmla="val -30248"/>
                <a:gd name="adj2" fmla="val 25776"/>
                <a:gd name="adj3" fmla="val -30248"/>
              </a:avLst>
            </a:prstGeom>
            <a:ln w="57240">
              <a:solidFill>
                <a:srgbClr val="ff3300"/>
              </a:solidFill>
              <a:miter/>
            </a:ln>
          </p:spPr>
        </p:cxnSp>
        <p:cxnSp>
          <p:nvCxnSpPr>
            <p:cNvPr id="142" name=""/>
            <p:cNvCxnSpPr/>
            <p:nvPr/>
          </p:nvCxnSpPr>
          <p:spPr>
            <a:xfrm rot="10800000">
              <a:off x="778680" y="2995920"/>
              <a:ext cx="123120" cy="1490760"/>
            </a:xfrm>
            <a:prstGeom prst="curvedConnector5">
              <a:avLst>
                <a:gd name="adj1" fmla="val 327272"/>
                <a:gd name="adj2" fmla="val 50000"/>
                <a:gd name="adj3" fmla="val 327272"/>
              </a:avLst>
            </a:prstGeom>
            <a:ln w="57240">
              <a:solidFill>
                <a:srgbClr val="ff3300"/>
              </a:solidFill>
              <a:miter/>
            </a:ln>
          </p:spPr>
        </p:cxnSp>
        <p:cxnSp>
          <p:nvCxnSpPr>
            <p:cNvPr id="143" name=""/>
            <p:cNvCxnSpPr/>
            <p:nvPr/>
          </p:nvCxnSpPr>
          <p:spPr>
            <a:xfrm flipH="1" flipV="1" rot="10800000">
              <a:off x="3706920" y="2875680"/>
              <a:ext cx="61200" cy="1459440"/>
            </a:xfrm>
            <a:prstGeom prst="curvedConnector5">
              <a:avLst>
                <a:gd name="adj1" fmla="val -319526"/>
                <a:gd name="adj2" fmla="val 49987"/>
                <a:gd name="adj3" fmla="val -319526"/>
              </a:avLst>
            </a:prstGeom>
            <a:ln w="57240">
              <a:solidFill>
                <a:srgbClr val="ff33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725400" y="3821040"/>
            <a:ext cx="1968480" cy="1118160"/>
            <a:chOff x="725400" y="3821040"/>
            <a:chExt cx="1968480" cy="1118160"/>
          </a:xfrm>
        </p:grpSpPr>
        <p:sp>
          <p:nvSpPr>
            <p:cNvPr id="145" name=""/>
            <p:cNvSpPr/>
            <p:nvPr/>
          </p:nvSpPr>
          <p:spPr>
            <a:xfrm>
              <a:off x="1332000" y="45403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cc"/>
                  </a:solidFill>
                  <a:latin typeface="Times New Roman"/>
                  <a:ea typeface="ＭＳ Ｐゴシック"/>
                </a:rPr>
                <a:t>query pe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725400" y="3821040"/>
              <a:ext cx="304920" cy="471600"/>
              <a:chOff x="725400" y="3821040"/>
              <a:chExt cx="304920" cy="471600"/>
            </a:xfrm>
          </p:grpSpPr>
          <p:sp>
            <p:nvSpPr>
              <p:cNvPr id="147" name=""/>
              <p:cNvSpPr/>
              <p:nvPr/>
            </p:nvSpPr>
            <p:spPr>
              <a:xfrm>
                <a:off x="857160" y="3821040"/>
                <a:ext cx="173160" cy="1335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94880" y="3965400"/>
                <a:ext cx="103320" cy="1936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5240" y="4159080"/>
                <a:ext cx="103320" cy="133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25400" y="4159080"/>
                <a:ext cx="69840" cy="1335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57160" y="4038480"/>
                <a:ext cx="123840" cy="367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7160" y="4075200"/>
                <a:ext cx="123840" cy="363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851280" y="2211480"/>
            <a:ext cx="225360" cy="326520"/>
            <a:chOff x="3851280" y="2211480"/>
            <a:chExt cx="225360" cy="326520"/>
          </a:xfrm>
        </p:grpSpPr>
        <p:sp>
          <p:nvSpPr>
            <p:cNvPr id="154" name=""/>
            <p:cNvSpPr/>
            <p:nvPr/>
          </p:nvSpPr>
          <p:spPr>
            <a:xfrm>
              <a:off x="3948480" y="2211480"/>
              <a:ext cx="128160" cy="92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902040" y="2311920"/>
              <a:ext cx="76680" cy="133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02400" y="2445480"/>
              <a:ext cx="76680" cy="92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51280" y="2445480"/>
              <a:ext cx="51120" cy="92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48480" y="2362320"/>
              <a:ext cx="92160" cy="24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8480" y="2387520"/>
              <a:ext cx="92160" cy="24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948000" y="3508200"/>
            <a:ext cx="217800" cy="328680"/>
            <a:chOff x="6948000" y="3508200"/>
            <a:chExt cx="217800" cy="328680"/>
          </a:xfrm>
        </p:grpSpPr>
        <p:sp>
          <p:nvSpPr>
            <p:cNvPr id="161" name=""/>
            <p:cNvSpPr/>
            <p:nvPr/>
          </p:nvSpPr>
          <p:spPr>
            <a:xfrm>
              <a:off x="7042320" y="3508200"/>
              <a:ext cx="123480" cy="93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97680" y="3609360"/>
              <a:ext cx="74160" cy="134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7680" y="3743640"/>
              <a:ext cx="74160" cy="93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948000" y="3743640"/>
              <a:ext cx="49320" cy="93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42320" y="3659760"/>
              <a:ext cx="88920" cy="25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42320" y="3685320"/>
              <a:ext cx="88920" cy="25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56000" y="4516560"/>
            <a:ext cx="216000" cy="398520"/>
            <a:chOff x="4356000" y="4516560"/>
            <a:chExt cx="216000" cy="398520"/>
          </a:xfrm>
        </p:grpSpPr>
        <p:sp>
          <p:nvSpPr>
            <p:cNvPr id="168" name=""/>
            <p:cNvSpPr/>
            <p:nvPr/>
          </p:nvSpPr>
          <p:spPr>
            <a:xfrm>
              <a:off x="4449240" y="4516560"/>
              <a:ext cx="122760" cy="113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404960" y="4638960"/>
              <a:ext cx="73440" cy="162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04960" y="4802040"/>
              <a:ext cx="73440" cy="113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356000" y="4802040"/>
              <a:ext cx="48960" cy="113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49240" y="4700520"/>
              <a:ext cx="88200" cy="30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49240" y="4731120"/>
              <a:ext cx="88200" cy="30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43240" y="2816280"/>
            <a:ext cx="7201800" cy="2459880"/>
            <a:chOff x="543240" y="2816280"/>
            <a:chExt cx="7201800" cy="2459880"/>
          </a:xfrm>
        </p:grpSpPr>
        <p:grpSp>
          <p:nvGrpSpPr>
            <p:cNvPr id="175" name=""/>
            <p:cNvGrpSpPr/>
            <p:nvPr/>
          </p:nvGrpSpPr>
          <p:grpSpPr>
            <a:xfrm>
              <a:off x="762120" y="2816280"/>
              <a:ext cx="6982920" cy="2368440"/>
              <a:chOff x="762120" y="2816280"/>
              <a:chExt cx="6982920" cy="23684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762120" y="2816280"/>
                <a:ext cx="6982920" cy="2184120"/>
                <a:chOff x="762120" y="2816280"/>
                <a:chExt cx="6982920" cy="2184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62120" y="4454280"/>
                  <a:ext cx="731520" cy="546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629160" y="2816280"/>
                  <a:ext cx="975960" cy="789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2120" y="3057120"/>
                  <a:ext cx="486720" cy="364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258680" y="3726720"/>
                  <a:ext cx="486360" cy="364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494760" y="2876400"/>
                  <a:ext cx="548280" cy="546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4543560" y="4819680"/>
                <a:ext cx="487080" cy="36504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43240" y="4987800"/>
              <a:ext cx="1529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local reposi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812000" y="3005280"/>
            <a:ext cx="1332000" cy="184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urn-resi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T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(log 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60" y="2693880"/>
            <a:ext cx="7409520" cy="2153160"/>
            <a:chOff x="2160" y="2693880"/>
            <a:chExt cx="7409520" cy="2153160"/>
          </a:xfrm>
        </p:grpSpPr>
        <p:sp>
          <p:nvSpPr>
            <p:cNvPr id="186" name="Documents"/>
            <p:cNvSpPr/>
            <p:nvPr/>
          </p:nvSpPr>
          <p:spPr>
            <a:xfrm>
              <a:off x="640080" y="4393800"/>
              <a:ext cx="365400" cy="3978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60" y="4412520"/>
              <a:ext cx="734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ook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a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Documents"/>
            <p:cNvSpPr/>
            <p:nvPr/>
          </p:nvSpPr>
          <p:spPr>
            <a:xfrm>
              <a:off x="3507480" y="2693880"/>
              <a:ext cx="365400" cy="3978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Documents"/>
            <p:cNvSpPr/>
            <p:nvPr/>
          </p:nvSpPr>
          <p:spPr>
            <a:xfrm>
              <a:off x="6252480" y="2754000"/>
              <a:ext cx="365400" cy="3978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Documents"/>
            <p:cNvSpPr/>
            <p:nvPr/>
          </p:nvSpPr>
          <p:spPr>
            <a:xfrm>
              <a:off x="7166880" y="3604680"/>
              <a:ext cx="244800" cy="3358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89080" y="2490840"/>
            <a:ext cx="7612560" cy="2638800"/>
            <a:chOff x="1189080" y="2490840"/>
            <a:chExt cx="7612560" cy="2638800"/>
          </a:xfrm>
        </p:grpSpPr>
        <p:sp>
          <p:nvSpPr>
            <p:cNvPr id="192" name=""/>
            <p:cNvSpPr/>
            <p:nvPr/>
          </p:nvSpPr>
          <p:spPr>
            <a:xfrm>
              <a:off x="6861240" y="2695680"/>
              <a:ext cx="1768320" cy="18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89080" y="2999520"/>
              <a:ext cx="1768320" cy="18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69880" y="2655360"/>
              <a:ext cx="1931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erm g: 13, 11, 45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9080" y="2817360"/>
              <a:ext cx="1768320" cy="18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94120" y="2775960"/>
              <a:ext cx="1931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erm a: 17, 11, 92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94840" y="2957760"/>
              <a:ext cx="1896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erm f: 43, 65, 92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1120" y="249084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cc"/>
                  </a:solidFill>
                  <a:latin typeface="Times New Roman"/>
                  <a:ea typeface="ＭＳ Ｐゴシック"/>
                </a:rPr>
                <a:t>global 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720" y="4880160"/>
              <a:ext cx="1767960" cy="18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63400" y="4841280"/>
              <a:ext cx="1931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erm g: 13, 11, 45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56120" y="2755800"/>
              <a:ext cx="1768320" cy="18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4400" y="2716920"/>
              <a:ext cx="1919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erm c: 13, 92, 45,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788240" y="1339920"/>
            <a:ext cx="1355760" cy="129204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1128600" y="2755800"/>
            <a:ext cx="5734080" cy="1702080"/>
            <a:chOff x="1128600" y="2755800"/>
            <a:chExt cx="5734080" cy="1702080"/>
          </a:xfrm>
        </p:grpSpPr>
        <p:sp>
          <p:nvSpPr>
            <p:cNvPr id="205" name=""/>
            <p:cNvSpPr/>
            <p:nvPr/>
          </p:nvSpPr>
          <p:spPr>
            <a:xfrm flipV="1">
              <a:off x="1128600" y="2815920"/>
              <a:ext cx="2561400" cy="16416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128600" y="2755800"/>
              <a:ext cx="5734080" cy="1702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188720" y="4335120"/>
              <a:ext cx="2744280" cy="122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080" y="1504800"/>
            <a:ext cx="5907960" cy="66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otype System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Minerv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r P2P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being integrated 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ELOS DLM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CH" sz="3200" spc="-1" strike="noStrike">
                <a:solidFill>
                  <a:srgbClr val="00436e"/>
                </a:solidFill>
                <a:latin typeface="Arial"/>
              </a:rPr>
              <a:t>T2.9: Context-dependent DL access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4160" y="1562040"/>
            <a:ext cx="8216640" cy="478008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Data models and query languages that incorporate the notion of context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A uniform mechanism at the DBMS level that adapts the </a:t>
            </a:r>
            <a:r>
              <a:rPr b="0" i="1" lang="en-US" sz="2600" spc="-1" strike="noStrike">
                <a:solidFill>
                  <a:srgbClr val="00436e"/>
                </a:solidFill>
                <a:latin typeface="Arial"/>
              </a:rPr>
              <a:t>structure</a:t>
            </a: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436e"/>
                </a:solidFill>
                <a:latin typeface="Arial"/>
              </a:rPr>
              <a:t>value</a:t>
            </a: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, and </a:t>
            </a:r>
            <a:r>
              <a:rPr b="0" i="1" lang="en-US" sz="2600" spc="-1" strike="noStrike">
                <a:solidFill>
                  <a:srgbClr val="00436e"/>
                </a:solidFill>
                <a:latin typeface="Arial"/>
              </a:rPr>
              <a:t>presentation</a:t>
            </a: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 of information to the user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Context in relational DBs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Context-relational model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Context-aware operations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Prototype implementation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on top of Postgress</a:t>
            </a:r>
            <a:r>
              <a:rPr b="0" lang="de-DE" sz="2600" spc="-1" strike="noStrike">
                <a:solidFill>
                  <a:srgbClr val="00436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46600" y="3703680"/>
            <a:ext cx="42274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CH" sz="3200" spc="-1" strike="noStrike">
                <a:solidFill>
                  <a:srgbClr val="00436e"/>
                </a:solidFill>
                <a:latin typeface="Arial"/>
              </a:rPr>
              <a:t>T2.9: Context-dependent DL access</a:t>
            </a:r>
            <a:endParaRPr b="1" lang="en-US" sz="3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1200" y="1777680"/>
            <a:ext cx="8229600" cy="437364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Context in semi-structured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436e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Multidimensional XML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(MXML)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Storing &amp; updating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MXML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Multidimensional XPath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436e"/>
                </a:solidFill>
                <a:latin typeface="Arial"/>
              </a:rPr>
              <a:t>(MXPath)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300" spc="-1" strike="noStrike">
              <a:solidFill>
                <a:srgbClr val="00436e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436e"/>
                </a:solidFill>
                <a:latin typeface="Arial"/>
              </a:rPr>
              <a:t>Joint integration effort</a:t>
            </a:r>
            <a:endParaRPr b="0" lang="en-US" sz="2600" spc="-1" strike="noStrike">
              <a:solidFill>
                <a:srgbClr val="00436e"/>
              </a:solidFill>
              <a:latin typeface="Arial"/>
            </a:endParaRPr>
          </a:p>
          <a:p>
            <a:pPr lvl="1" marL="668160" indent="-32508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200" spc="-1" strike="noStrike">
                <a:solidFill>
                  <a:srgbClr val="00436e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00436e"/>
                </a:solidFill>
                <a:latin typeface="Arial"/>
              </a:rPr>
              <a:t>Enhanced personalized information access in DLs“</a:t>
            </a:r>
            <a:endParaRPr b="0" lang="en-US" sz="2200" spc="-1" strike="noStrike">
              <a:solidFill>
                <a:srgbClr val="00436e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970520" y="1467000"/>
            <a:ext cx="38386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12-07T15:23:43Z</dcterms:modified>
  <cp:revision>48</cp:revision>
  <dc:subject/>
  <dc:title>“DIGITAL LIBRARIES” RESEARCH AGENDA</dc:title>
</cp:coreProperties>
</file>